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03D9-A278-4364-9EC0-D95B99D3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ED04-1FDE-40C7-8733-0C361A9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3514-3A50-4779-946F-2F81DA13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FAA8-8266-49C1-82BA-0EE8C4E0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D611-BEC8-4DC8-B938-A9CE52CF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1EDE-5065-4548-AE8E-2970246E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3F26-F1D2-4C6C-8991-A9541D49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6E2A-AC6D-413C-AA05-8398168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344BF-11C6-4678-8213-ECE3981C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A641-1E1E-445F-AFE2-A45D4DA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D9F8-A9D7-4BB2-8F5E-66996C5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EC6D-89D7-472B-BB09-4494C11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DC1E-EE10-4CD2-ACAA-0401B7EC5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91404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3142-7CE0-4CCB-9F68-0F228ABDF02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3505320" y="4818240"/>
            <a:ext cx="281916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9997-90E7-402D-9821-8B53157500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B83F0-E603-410F-BDA2-23F75297FD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building a scheduling system that can be used by doctors to manage their daily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A3A2E-BBC2-490F-9032-BC83F3D73D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E72897-9739-4B86-B28A-DBDF7AC153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"date" data type in lisp.  Define one in CLOS named DATETIME that represents a date with slo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, integer month, day, hour,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10AA-6136-4628-8315-029C4CC623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B33976-219E-4D2F-823E-AA92E9B3E7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e 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print-date for displaying the date in a more familiar format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/16/1962 8: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DATE-LESSP that takes two dates as arguments and returns true if the first argument is earlier in time than the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TRING-LESSP for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sorting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643A-AF59-47B0-BB7B-27FC317155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C0FCE4-93AB-4313-AD9C-E99D834297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ccessors, initforms, and initargs for a class representing an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lot for a datetim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lot for the name of the do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476F-C229-4799-9671-D562D0BAE4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0AF1F-31A1-4CE0-B73E-18F8401844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subclass representing a patient appoin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slot for the name of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third class named MEETING that is also an APPOINTM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r something like a staff meeting or department meeting among do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59B2-E7C0-491F-B886-49F2629C45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AFFB96-CAFB-4778-9204-07B69627AF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method named SCHEDULE for adding an appointment to a schedule. The "schedule" should be an appropriate data structure attached to a global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(or methods) named CONFLICT-P that takes two appointments and determines if they conflict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se two operations, make sure doctors can be double-booked but not pat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1712-B0E7-4806-AD2C-ABBE694A7E6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D5628E-169F-458B-B1F3-EB8E79E4DA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to cancel an appoint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method to reschedule an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or method that gets today's schedule for a given person/patient. It should return a sorted list of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or method that gets today's schedule for a given doctor.  It should return a sorted list of appoint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BCD2-4DBA-496C-87AE-078A6FB7A7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4C5BAE-4BD7-4B4E-8BC4-9007798AA9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/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some of the different ways of storing the schedule.  List as many as possible.  Compare and contrast the various possi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anz_logo" descr=""/>
          <p:cNvPicPr/>
          <p:nvPr/>
        </p:nvPicPr>
        <p:blipFill>
          <a:blip r:embed="rId1"/>
          <a:stretch/>
        </p:blipFill>
        <p:spPr>
          <a:xfrm>
            <a:off x="7391520" y="544500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9F57-C319-40FE-B968-E49C9D160C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8B7EA-E5F3-498E-8543-9C770EEE46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8T05:29:16Z</dcterms:created>
  <dc:creator>David Tan</dc:creator>
  <dc:description/>
  <dc:language>en-US</dc:language>
  <cp:lastModifiedBy>Colin Meldrum</cp:lastModifiedBy>
  <cp:lastPrinted>1998-11-12T18:02:30Z</cp:lastPrinted>
  <dcterms:modified xsi:type="dcterms:W3CDTF">2004-11-10T20:13:32Z</dcterms:modified>
  <cp:revision>122</cp:revision>
  <dc:subject/>
  <dc:title>Common Lisp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\intermediat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