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32432-FF89-43B4-831A-D0F1DBBC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0676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C39C2-572E-4DF7-BD8D-420454C7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84171-DE83-4027-BD12-5CB14706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15998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15998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0676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40676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40676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BD252-81B7-4EEF-9FFE-2FFF250B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C8C1D-62E1-4A17-84A8-EB946561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8A099-FF22-410B-9DDA-3EA22211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FD25F-8DED-4300-866A-9BC45C4A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B12D1-64AB-4853-B9FC-996DD547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FDE9-507E-46D3-9768-22967DEB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41BCD-9714-4DA5-8C40-DC6D8D4F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42A57-5190-4918-9D65-94162E1C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0676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42583-5815-4338-85FD-A48D2C9A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90560" y="647712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102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D5AB-04DA-4DA1-B81A-AAB7DE84F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SmallSideBarFade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3"/>
          </p:nvPr>
        </p:nvSpPr>
        <p:spPr>
          <a:xfrm>
            <a:off x="91404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DDED-DAC6-484F-AB0A-43BEFDE00BC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gro CL Certif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524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Programming Series Level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franz_logo" descr=""/>
          <p:cNvPicPr/>
          <p:nvPr/>
        </p:nvPicPr>
        <p:blipFill>
          <a:blip r:embed="rId1"/>
          <a:stretch/>
        </p:blipFill>
        <p:spPr>
          <a:xfrm>
            <a:off x="3505320" y="4818240"/>
            <a:ext cx="2819160" cy="172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7823A-63E5-41CB-8822-64F3DEC6FC9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8F88A4-B5D2-48F8-96B2-C91F681CB1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building a scheduling system that can be used by doctors to manage their daily appoint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ranz_logo" descr=""/>
          <p:cNvPicPr/>
          <p:nvPr/>
        </p:nvPicPr>
        <p:blipFill>
          <a:blip r:embed="rId1"/>
          <a:stretch/>
        </p:blipFill>
        <p:spPr>
          <a:xfrm>
            <a:off x="7391520" y="544500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4A832-A7B9-429F-A29A-B0E95F5FDBB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108E4A-F460-412A-B4AE-4562A11B9A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"date" data type in lisp.  Define one in CLOS named DATETIME that represents a date with slo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r, integer month, day, hour, min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ranz_logo" descr=""/>
          <p:cNvPicPr/>
          <p:nvPr/>
        </p:nvPicPr>
        <p:blipFill>
          <a:blip r:embed="rId1"/>
          <a:stretch/>
        </p:blipFill>
        <p:spPr>
          <a:xfrm>
            <a:off x="7391520" y="544500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38C7E-9761-47AA-98B4-0BA41153763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997E1F-C02B-47A1-9EC5-FD2B679110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e 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method print-date for displaying the date in a more familiar format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/16/1962 8: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method DATE-LESSP that takes two dates as arguments and returns true if the first argument is earlier in time than the sec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ous to STRING-LESSP for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for sorting 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ranz_logo" descr=""/>
          <p:cNvPicPr/>
          <p:nvPr/>
        </p:nvPicPr>
        <p:blipFill>
          <a:blip r:embed="rId1"/>
          <a:stretch/>
        </p:blipFill>
        <p:spPr>
          <a:xfrm>
            <a:off x="7391520" y="544500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32EDA-BE56-471F-BFA4-BB15032E089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6E6A07-DE32-4F63-A532-6821DE9552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ccessors, initforms, and initargs for a class representing an appoin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slot for a datetim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slot for the name of the do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ranz_logo" descr=""/>
          <p:cNvPicPr/>
          <p:nvPr/>
        </p:nvPicPr>
        <p:blipFill>
          <a:blip r:embed="rId1"/>
          <a:stretch/>
        </p:blipFill>
        <p:spPr>
          <a:xfrm>
            <a:off x="7391520" y="544500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92A6E-301A-4822-B502-F41E98EB2DC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2D7213-8A25-4A32-9528-ECEDA9CE8E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subclass representing a patient appoint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 slot for the name of the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third class named MEETING that is also an APPOINTMEN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for something like a staff meeting or department meeting among do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ranz_logo" descr=""/>
          <p:cNvPicPr/>
          <p:nvPr/>
        </p:nvPicPr>
        <p:blipFill>
          <a:blip r:embed="rId1"/>
          <a:stretch/>
        </p:blipFill>
        <p:spPr>
          <a:xfrm>
            <a:off x="7391520" y="544500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BFD2D-BAD2-4B35-83B1-6D3ECB3DAE6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A6F513-9B6E-43CB-AD7B-300A84133B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method named SCHEDULE for adding an appointment to a schedule. The "schedule" should be an appropriate data structure attached to a global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method (or methods) named CONFLICT-P that takes two appointments and determines if they conflict i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hese two operations, make sure doctors can be double-booked but not pat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02B2C-C283-41F7-B1DD-DD59FAF0E8B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EF0F86-1C85-4CB5-8C60-04F514FC98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method to cancel an appoint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method to reschedule an appoin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function or method that gets today's schedule for a given person/patient. It should return a sorted list of appoint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function or method that gets today's schedule for a given doctor.  It should return a sorted list of appoint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franz_logo" descr=""/>
          <p:cNvPicPr/>
          <p:nvPr/>
        </p:nvPicPr>
        <p:blipFill>
          <a:blip r:embed="rId1"/>
          <a:stretch/>
        </p:blipFill>
        <p:spPr>
          <a:xfrm>
            <a:off x="7391520" y="544500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53DFA-BC98-4C2C-9577-86E01E3760C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917A30-518E-4A46-BD46-688976998A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e/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some of the different ways of storing the schedule.  List as many as possible.  Compare and contrast the various possi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ranz_logo" descr=""/>
          <p:cNvPicPr/>
          <p:nvPr/>
        </p:nvPicPr>
        <p:blipFill>
          <a:blip r:embed="rId1"/>
          <a:stretch/>
        </p:blipFill>
        <p:spPr>
          <a:xfrm>
            <a:off x="7391520" y="544500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92016-1F38-4B51-8D3C-466CF82D145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DA80D3-91FC-43E8-A91E-6AA7B0F83A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8T05:29:16Z</dcterms:created>
  <dc:creator>David Tan</dc:creator>
  <dc:description/>
  <dc:language>en-US</dc:language>
  <cp:lastModifiedBy>Colin Meldrum</cp:lastModifiedBy>
  <cp:lastPrinted>1998-11-12T18:02:30Z</cp:lastPrinted>
  <dcterms:modified xsi:type="dcterms:W3CDTF">2004-11-10T20:13:32Z</dcterms:modified>
  <cp:revision>122</cp:revision>
  <dc:subject/>
  <dc:title>Common Lisp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franz.com/lab/</vt:lpwstr>
  </property>
  <property fmtid="{D5CDD505-2E9C-101B-9397-08002B2CF9AE}" pid="9" name="LinkColor">
    <vt:r8>16711782</vt:r8>
  </property>
  <property fmtid="{D5CDD505-2E9C-101B-9397-08002B2CF9AE}" pid="10" name="MailAddress">
    <vt:lpwstr>training@franz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\\cobweb\colin\www\franz\users\colin\htdocs\lab\intermediat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