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BF2E0-5E0E-4C35-B00F-02C8093D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0676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6AC25-B756-4A54-A181-EFEE03FA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0676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3720" y="40676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5CAB3-5BA6-4E2B-933C-18CA7885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9440" y="15998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4840" y="15998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0676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9440" y="40676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4840" y="40676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B32C9-39E1-4D29-831F-6D834589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EC036-0E77-4410-AA6A-499977EE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27C43-A072-4904-8EA1-B87E4321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3720" y="15998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36D07-0278-40F5-8640-D2088983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19BF5-EB80-4A8B-8C8A-454B98CB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C01B7-0FC1-405B-8C23-57AC20B4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15998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0676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9AC23-EB44-4892-B09D-592CCCED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72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3720" y="40676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4498D-9154-4997-A33B-C280DB5C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0676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ED671-B6C7-458A-B7CE-0F98CDA4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590560" y="6477120"/>
            <a:ext cx="4343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102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1FE6-2C08-4638-82B4-3035966C0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SmallSideBarFade" descr=""/>
          <p:cNvPicPr/>
          <p:nvPr/>
        </p:nvPicPr>
        <p:blipFill>
          <a:blip r:embed="rId2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3"/>
          </p:nvPr>
        </p:nvSpPr>
        <p:spPr>
          <a:xfrm>
            <a:off x="91404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E667-73ED-4154-8115-E999C14A2A0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gro CL Certification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002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 Programming Series Level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franz_logo" descr=""/>
          <p:cNvPicPr/>
          <p:nvPr/>
        </p:nvPicPr>
        <p:blipFill>
          <a:blip r:embed="rId1"/>
          <a:stretch/>
        </p:blipFill>
        <p:spPr>
          <a:xfrm>
            <a:off x="3429000" y="4818240"/>
            <a:ext cx="2819520" cy="172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ADA00-9BA8-44F3-A0A2-136F9A08220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1CCD94-1E35-4624-9D16-937F2B9287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;;Where is the clos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efun add1 (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mapcar #’(lambda (n) (+ n 1)) lis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efun sum (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let ((sum 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mapcar #’(lambda (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tq sum (+ sum n)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m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franz_logo" descr=""/>
          <p:cNvPicPr/>
          <p:nvPr/>
        </p:nvPicPr>
        <p:blipFill>
          <a:blip r:embed="rId1"/>
          <a:stretch/>
        </p:blipFill>
        <p:spPr>
          <a:xfrm>
            <a:off x="7391520" y="5410080"/>
            <a:ext cx="167616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09111-EEB7-49B0-AA12-C1412E6B38D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88FF0B-FF9A-44A3-82E1-6E9A8E5EFF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the hello-world function.  Pass the stream as an optional arg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 the stream as a keyword arg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the function SUM that returns the sum of all its arguments.  Write it such that it can take any number of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franz_logo" descr=""/>
          <p:cNvPicPr/>
          <p:nvPr/>
        </p:nvPicPr>
        <p:blipFill>
          <a:blip r:embed="rId1"/>
          <a:stretch/>
        </p:blipFill>
        <p:spPr>
          <a:xfrm>
            <a:off x="7391520" y="5410080"/>
            <a:ext cx="167616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C2624-3DB2-4A86-A926-F82DCE4CCE2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9BC1C3-11F3-4F65-AB14-BAB978C55A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setf function on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does th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etq list ‘(1 2 3 4 5 6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etf (3rd list)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9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1 2 7 4 5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franz_logo" descr=""/>
          <p:cNvPicPr/>
          <p:nvPr/>
        </p:nvPicPr>
        <p:blipFill>
          <a:blip r:embed="rId1"/>
          <a:stretch/>
        </p:blipFill>
        <p:spPr>
          <a:xfrm>
            <a:off x="7391520" y="5410080"/>
            <a:ext cx="167616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7D2ED-3176-427E-9B19-5E3D2A12CB9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907B9B-7EFC-4B13-A713-0CB8417FCC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function EXPENSIVE that calculates the square of a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function FRUGAL that returns the same answer, but only calls EXPENSIVE when the given argument has not been seen bef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franz_logo" descr=""/>
          <p:cNvPicPr/>
          <p:nvPr/>
        </p:nvPicPr>
        <p:blipFill>
          <a:blip r:embed="rId1"/>
          <a:stretch/>
        </p:blipFill>
        <p:spPr>
          <a:xfrm>
            <a:off x="7391520" y="5410080"/>
            <a:ext cx="167616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E8549-C618-4E02-A5ED-C1911B43F13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D50AAA-C449-42D7-9B4C-9966AEEB2C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apping functions to sum the elements of a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franz_logo" descr=""/>
          <p:cNvPicPr/>
          <p:nvPr/>
        </p:nvPicPr>
        <p:blipFill>
          <a:blip r:embed="rId1"/>
          <a:stretch/>
        </p:blipFill>
        <p:spPr>
          <a:xfrm>
            <a:off x="7391520" y="5410080"/>
            <a:ext cx="167616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F300D-D3C1-45A8-8D55-ADE6F2EB30F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F2A00F-31A8-4E34-98F3-9B434FF1A4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NCATE takes two arguments and returns two values.  Write a function that calls it and returns only its second value (the remaind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franz_logo" descr=""/>
          <p:cNvPicPr/>
          <p:nvPr/>
        </p:nvPicPr>
        <p:blipFill>
          <a:blip r:embed="rId1"/>
          <a:stretch/>
        </p:blipFill>
        <p:spPr>
          <a:xfrm>
            <a:off x="7391520" y="5410080"/>
            <a:ext cx="167616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FB7C1-C926-47F9-8358-BFDBCF5D426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EF274F-22B0-4495-9E0B-7427E21A85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a hash table, write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ccurrences ‘(a b r a ca d a b r a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s ((A . 4) (R . 2) (B . 2) (D . 1) (CA . 1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franz_logo" descr=""/>
          <p:cNvPicPr/>
          <p:nvPr/>
        </p:nvPicPr>
        <p:blipFill>
          <a:blip r:embed="rId1"/>
          <a:stretch/>
        </p:blipFill>
        <p:spPr>
          <a:xfrm>
            <a:off x="7391520" y="5410080"/>
            <a:ext cx="167616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C877C-8EBA-40BE-8FE5-0EC83C284EC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2A4E6E-EA02-4F49-9C53-9B7F7600D4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some macros that help generate 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 output to *standard-output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s center “Lisp Class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center&gt;Lisp Class&lt;/cente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with center (princ “Lisp”) (princ “ Class”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cente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p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cente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ranz_logo" descr=""/>
          <p:cNvPicPr/>
          <p:nvPr/>
        </p:nvPicPr>
        <p:blipFill>
          <a:blip r:embed="rId1"/>
          <a:stretch/>
        </p:blipFill>
        <p:spPr>
          <a:xfrm>
            <a:off x="7391520" y="5410080"/>
            <a:ext cx="167616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D950A-3261-47E6-9CC8-E078DF66028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F16BCD-38A2-4CB3-B207-48A702E0C9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ro Lab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rotatef as a ma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et ((a 1) (b 2)) (rotatef a b) a)  =&g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"mydefun" as a macro that works like def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"mytypecase" as a macro that works like typecase (hint: use typep and co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cas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ymbol (print ‘symbol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tring (print ‘string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franz_logo" descr=""/>
          <p:cNvPicPr/>
          <p:nvPr/>
        </p:nvPicPr>
        <p:blipFill>
          <a:blip r:embed="rId1"/>
          <a:stretch/>
        </p:blipFill>
        <p:spPr>
          <a:xfrm>
            <a:off x="7391520" y="5410080"/>
            <a:ext cx="167616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619EB-0F97-4335-ABB5-F40EDAAB8B8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998DCC-68DF-44C7-B1B1-96A79717F1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8T05:29:16Z</dcterms:created>
  <dc:creator>David Tan</dc:creator>
  <dc:description/>
  <dc:language>en-US</dc:language>
  <cp:lastModifiedBy>Colin Meldrum</cp:lastModifiedBy>
  <cp:lastPrinted>1998-11-12T18:02:30Z</cp:lastPrinted>
  <dcterms:modified xsi:type="dcterms:W3CDTF">2004-11-10T20:12:14Z</dcterms:modified>
  <cp:revision>114</cp:revision>
  <dc:subject/>
  <dc:title>Common Lisp Cla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franz.com/lab/</vt:lpwstr>
  </property>
  <property fmtid="{D5CDD505-2E9C-101B-9397-08002B2CF9AE}" pid="9" name="LinkColor">
    <vt:r8>16711782</vt:r8>
  </property>
  <property fmtid="{D5CDD505-2E9C-101B-9397-08002B2CF9AE}" pid="10" name="MailAddress">
    <vt:lpwstr>training@franz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\\cobweb\colin\www\franz\users\colin\htdocs\lab\intermediat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