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D989-A85B-49C6-AFAA-F38E50AE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55CB-0AE9-49FD-A0E4-EAB412EE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37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59BA-1687-4C48-999E-6C380D43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94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48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94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48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6959-0C8F-44A3-9340-27A5E18C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83F8-F198-4E8F-8399-D673EE5E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7440-E0B5-44B4-ABA5-8978EC05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F8275-6428-41E6-92F8-D000743A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96867-76A9-4F07-9666-5F5865AC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99047-C7BA-4D37-B3BA-DE9D7573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C9DB-E1C9-436D-9810-7DCA85E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37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3A7B-5173-4B28-AAEF-D426623B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37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2B07-E1B7-4E52-8EBE-26BDEB92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5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1BE7-06B2-40D1-92C0-C3EAA0A1E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mallSideBarFade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91404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6789-2531-4C50-8A04-67E7FCE621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002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ranz_logo" descr=""/>
          <p:cNvPicPr/>
          <p:nvPr/>
        </p:nvPicPr>
        <p:blipFill>
          <a:blip r:embed="rId1"/>
          <a:stretch/>
        </p:blipFill>
        <p:spPr>
          <a:xfrm>
            <a:off x="3429000" y="4818240"/>
            <a:ext cx="2819520" cy="172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435B-30AC-4E5D-82BF-AD9BC0DF124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5BA092-DB0C-46B3-82FC-4643F155E2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;;Where is the clo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add1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car #’(lambda (n) (+ n 1)) 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sum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mapcar #’(lambda (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tq sum (+ sum n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3208-F794-4A56-88F4-59D7DB5F6D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8DC01F-3126-41D4-A1A1-1A796E90BE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hello-world function.  Pass the stream as an optional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 the stream as a keyword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function SUM that returns the sum of all its arguments.  Write it such that it can take any number of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D400-27A6-43F9-A4CA-60D3DBA123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EB725F-5D9A-4409-943F-163EA04B1E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setf function on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does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list ‘(1 2 3 4 5 6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f (3rd list)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SzPct val="9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 2 7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1A7D-E724-473D-BDD2-A8E25CF02D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EF0DAF-4F53-4846-B1AF-90867AABE5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EXPENSIVE that calculates the square of a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FRUGAL that returns the same answer, but only calls EXPENSIVE when the given argument has not been seen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5610-1DDF-4261-8F52-67FCB459EA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5B6089-0FCA-4766-A965-7FF1463861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pping functions to sum the elements of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C30A8-E614-4D03-AD94-03AB2F0A0C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B5784B-150F-41B7-9021-CD36C2B8F9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NCATE takes two arguments and returns two values.  Write a function that calls it and returns only its second value (the remaind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2667-47AD-46AA-8EB2-E60B5E6ED4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42DE09-97B7-4C26-98D5-0584E5E558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hash table, write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ccurrences ‘(a b r a ca d a b r a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((A . 4) (R . 2) (B . 2) (D . 1) (CA . 1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0350-93A8-4ADF-BC38-3874003003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A188A0-A80B-4875-94A7-CDA209183C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some macros that help generate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output to *standard-output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s center “Lisp Class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enter&gt;Lisp Class&lt;/cen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ith center (princ “Lisp”) (princ “ Class”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en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p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cen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E5DC-0E48-4CE2-9411-30447BD046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B7E68F-0B93-4424-83AE-F60E2FA0C7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 Lab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rotatef as a 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et ((a 1) (b 2)) (rotatef a b) a)  =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"mydefun" as a macro that works like de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"mytypecase" as a macro that works like typecase (hint: use typep and co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cas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ymbol (print ‘symbo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tring (print ‘string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franz_logo" descr=""/>
          <p:cNvPicPr/>
          <p:nvPr/>
        </p:nvPicPr>
        <p:blipFill>
          <a:blip r:embed="rId1"/>
          <a:stretch/>
        </p:blipFill>
        <p:spPr>
          <a:xfrm>
            <a:off x="7391520" y="5410080"/>
            <a:ext cx="1676160" cy="110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A8E4-2761-47B0-BFFC-E28F9CC017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51FA30-D957-4E66-AD9E-340456F013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8T05:29:16Z</dcterms:created>
  <dc:creator>David Tan</dc:creator>
  <dc:description/>
  <dc:language>en-US</dc:language>
  <cp:lastModifiedBy>Colin Meldrum</cp:lastModifiedBy>
  <cp:lastPrinted>1998-11-12T18:02:30Z</cp:lastPrinted>
  <dcterms:modified xsi:type="dcterms:W3CDTF">2004-11-10T20:12:14Z</dcterms:modified>
  <cp:revision>114</cp:revision>
  <dc:subject/>
  <dc:title>Common Lisp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\intermediat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