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B8EEB-7B17-444A-8DFC-95047198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40676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63831-9797-4218-89DA-88117530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600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600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E0BED-8853-4480-9A22-B64EA7DF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72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712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72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712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627A8-0E59-49BF-9E89-0032A11C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FEC6E-6CF0-43DA-827B-E9E66499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A590E-80BF-44F0-9BAF-1AACF8C4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600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4D4BC-8AD3-45E9-906F-1770D67C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3DA0C-6AE5-44E9-A3A3-1A24D21B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C4E7F-961F-4FEF-93CF-6198B058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600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D4725-BE6E-40C4-8EB2-44274449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600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600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ACD14-4A23-4036-8394-58DF8186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600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40676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5E6E0-8B97-446B-B110-0D306D4A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819160" y="647712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1625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F121-C0A7-4172-85D3-06D24A7F3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SmallSideBarFade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3"/>
          </p:nvPr>
        </p:nvSpPr>
        <p:spPr>
          <a:xfrm>
            <a:off x="106632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269B-C8D7-47EE-8BBC-B15B5E44EAC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106632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524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franz_logo" descr=""/>
          <p:cNvPicPr/>
          <p:nvPr/>
        </p:nvPicPr>
        <p:blipFill>
          <a:blip r:embed="rId1"/>
          <a:stretch/>
        </p:blipFill>
        <p:spPr>
          <a:xfrm>
            <a:off x="6629400" y="4965840"/>
            <a:ext cx="228600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4C0EC-0A3A-4B58-8E26-8DBAA5F5ADD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DB8AF6-4995-438F-87E2-C2066791BA32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al arguments to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function wh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 2 required arguments and  2 optional arguments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s each of its arguments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he function with 2 non-integer arguments at least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he function with 3 arguments, not all of them integers,  at least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he function with 4 arguments at least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0598A-3E6A-48A2-BAC2-87C48D1858C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1D35B6-AB53-467D-8BDA-41F89D132A0D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word arguments to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function doit wh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 2 required arguments  alpha and beta and  2 keyword arguments gamma and delta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s each of its arguments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each of the following calls to the funct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it 2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it 2 3 :gamma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it 2 3 :delta 7 :gamma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62186-5F14-41A9-A105-B2ED63645A9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22B1DC-9C18-4174-BCA6-0C3BDABDAF11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 argument to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function doit2 wh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 2 required arguments  alpha and beta and   an &amp;rest  argument all-the-oth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s each of its arguments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each of the following calls to the funct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it2 2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it2 2 3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it2 2 3  ‘july  4  177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oit2 3 4 5 6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C645D-82FC-4618-93B7-ED75A90002E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626CFD-3672-426D-BA4F-A3DA864EE679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source file, write a function that prints “Hello Worl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e the f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 th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the .fas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the fun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8A500-7EED-40A9-9EB6-E33C456DCC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A7D72C-047E-4432-A172-3B739EC22271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function named poly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ust take 4 arguments: a, b, c and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ust return the valu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bx +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16525-CE0B-407F-8B23-402B5BE5DDA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5C7E88-C0FA-43C7-9167-796FE1853281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-compile-and-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function that  compiles and lo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ile of Common Lisp source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s as argument a f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the symbol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6DBAC-5873-430B-A998-70F0AB04F7F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7BDB9A-9032-49A3-AB91-5DC430158392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 first, second, …, ten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second, third, …, tenth name functions each of wh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a list as arg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the corresponding element of its list arg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function whi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as argument a l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a list of the second and fourth elements of its arg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1CAB5-CE5A-48AD-9091-598274E6D7F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44CBEC-2378-4F70-9FC9-218C82C73EC7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 n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h names a Common Lisp function wh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as arguments a non-negative integer and a  lis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the element of its list argument which is in the (zero-based) position specified by the first argu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before define a function whi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as argument a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nth to return a list of the second and fourth elements of its arg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B9959-F5DF-47A4-8A36-AEDFBAD173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45BB2B-03E5-4CEC-9D70-997C19EEEBCF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 nth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function similar to that above wh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as arguments 2 non-negative integer aand a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a list of the elements of the list argument at the indices specified by the other 2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y the function defined above to also display the  number of elements in the list arguments (use the length fun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73113-7FD3-43A2-9230-2057E68ABA4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22E25A-2B55-4007-A7C4-9673CA532303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 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as first returns the first element of a list, the rest function returns that part of the list from which the first element has been rem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function which takes as argument a list and returns a list of the result of calling first on the list argument and the result of calling rest on the list argumen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769C6-746D-49BF-AF10-6D78BBBEC02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057B23-5FA8-4A6E-91BC-E7DD72118BC7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 m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mber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as arguments any lisp object and a list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es the list for a list element which is eql to the first arg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that part of the list of which the matching object is the first element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function which calls member and returns that part of the list which follows the matching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CA3BD-0730-48F0-B203-65A1A6BDC01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5B069C-8DE0-4716-B2F3-B1D1F25843F3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30T06:32:47Z</dcterms:created>
  <dc:creator>David Tan</dc:creator>
  <dc:description/>
  <dc:language>en-US</dc:language>
  <cp:lastModifiedBy>Colin Meldrum</cp:lastModifiedBy>
  <cp:lastPrinted>2003-07-18T23:55:29Z</cp:lastPrinted>
  <dcterms:modified xsi:type="dcterms:W3CDTF">2004-01-15T23:56:15Z</dcterms:modified>
  <cp:revision>280</cp:revision>
  <dc:subject/>
  <dc:title>Lab Exercise The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franz.com/lab/</vt:lpwstr>
  </property>
  <property fmtid="{D5CDD505-2E9C-101B-9397-08002B2CF9AE}" pid="9" name="LinkColor">
    <vt:r8>16711782</vt:r8>
  </property>
  <property fmtid="{D5CDD505-2E9C-101B-9397-08002B2CF9AE}" pid="10" name="MailAddress">
    <vt:lpwstr>training@franz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cobweb\colin\www\franz\users\colin\htdocs\lab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