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82F0-967F-4CAC-A82D-4C685FE4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5111-6B75-47B8-8633-13B80B2C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600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600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0FC3-0D23-4A93-96F7-F1EEB787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72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712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72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712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3650-02A8-4696-BFCD-50089869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7890-472C-47C3-BADF-CC112969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8A04-9F4E-4872-972A-03377275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600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7AC8-6723-499C-8AE5-6245E22D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856D-0114-4A5E-BDBA-E5C24734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A083-DDCF-4565-8433-C96E0DCA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600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C96A-0E5A-4AE7-9778-732B1A4F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600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600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B8CA-F16B-48DA-8ED1-7F367192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600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33DE-149F-4929-AAD7-64AAA6FF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8191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1D6B-C2F1-48EB-8E87-7B8704723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mallSideBarFade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3"/>
          </p:nvPr>
        </p:nvSpPr>
        <p:spPr>
          <a:xfrm>
            <a:off x="10663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3198-045A-45E6-A1CC-F818638A3DA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0663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ranz_logo" descr=""/>
          <p:cNvPicPr/>
          <p:nvPr/>
        </p:nvPicPr>
        <p:blipFill>
          <a:blip r:embed="rId1"/>
          <a:stretch/>
        </p:blipFill>
        <p:spPr>
          <a:xfrm>
            <a:off x="6629400" y="4965840"/>
            <a:ext cx="228600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20FE-D20A-442A-BE43-8BB0FF970BE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071819-B60F-4E63-8705-40234A580F45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al arguments to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 2 required arguments and  2 optional arguments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s each of its arguments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function with 2 non-integer arguments at leas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function with 3 arguments, not all of them integers,  at leas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function with 4 arguments at leas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71DF-C11D-4406-BF33-84ADAFD6C9F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68EE35-4CF6-463B-8F64-03D1E91C7068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word arguments to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doit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 2 required arguments  alpha and beta and  2 keyword arguments gamma and delta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s each of its arguments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each of the following calls to the func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 2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 2 3 :gamma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 2 3 :delta 7 :gamma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22AE-594D-43BC-9AEE-DCAF12D3640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72D76C-127D-466F-9409-5DC9B0FD555C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 argument to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doit2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 2 required arguments  alpha and beta and   an &amp;rest  argument all-the-oth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s each of its arguments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each of the following calls to the func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2 2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2 2 3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2 2 3  ‘july  4  17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2 3 4 5 6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72E6-22BB-4A01-A02D-987DC14B10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30536D-11A1-407A-BFB0-6333F6D1C811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ource file, write a function that prints “Hello Worl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the 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 th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the .fas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the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9156-35AB-482D-9B88-AFEDE41F82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42F9B2-0303-4279-876D-422CBD4D02B8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named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ust take 4 arguments: a, b, c an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ust return the valu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bx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4629-7FCA-4490-A405-FF8C9E7A31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D229C1-141A-41C7-853B-873125D193A3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-compile-and-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that  compiles and l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of Common Lisp source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s as argument a f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the symbol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E773-33A6-4315-96D7-CA40BEED44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12255F-A05D-408F-914D-341AE86530C3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first, second, …,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second, third, …, tenth name functions each of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 list as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e corresponding element of its list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whi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s argument a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 list of the second and fourth elements of its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CD6E-8BB1-4FE7-B78B-98AA37215E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3D6FFE-644D-4087-988C-F8B0D00FADB3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h names a Common Lisp function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s arguments a non-negative integer and a  li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e element of its list argument which is in the (zero-based) position specified by the first arg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before define a function whi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s argument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nth to return a list of the second and fourth elements of its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3F00-8BC0-41A7-B624-9B17BCDCF5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41A3EA-B9DD-44A5-A6C1-1BC010807E65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th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similar to that above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s arguments 2 non-negative integer aand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 list of the elements of the list argument at the indices specified by the other 2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the function defined above to also display the  number of elements in the list arguments (use the length fun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C9C0-ED2E-4F1D-9196-A3410BF389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31CD8A-66CE-472F-99D2-D20CA392956A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first returns the first element of a list, the rest function returns that part of the list from which the first element has been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which takes as argument a list and returns a list of the result of calling first on the list argument and the result of calling rest on the list argume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2A1A-6EBA-4FF9-879C-4F19EA488A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AE5F73-D801-4F80-9BD8-63545B26A0BB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s arguments any lisp object and a list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s the list for a list element which is eql to the first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at part of the list of which the matching object is the first element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which calls member and returns that part of the list which follows the matching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3569-D8A6-424E-8E5A-CD0F7DF01D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2B866F-7597-4189-9FB3-2BD58B14FA19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0T06:32:47Z</dcterms:created>
  <dc:creator>David Tan</dc:creator>
  <dc:description/>
  <dc:language>en-US</dc:language>
  <cp:lastModifiedBy>Colin Meldrum</cp:lastModifiedBy>
  <cp:lastPrinted>2003-07-18T23:55:29Z</cp:lastPrinted>
  <dcterms:modified xsi:type="dcterms:W3CDTF">2004-01-15T23:56:15Z</dcterms:modified>
  <cp:revision>280</cp:revision>
  <dc:subject/>
  <dc:title>Lab Exercise The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franz.com/lab/</vt:lpwstr>
  </property>
  <property fmtid="{D5CDD505-2E9C-101B-9397-08002B2CF9AE}" pid="9" name="LinkColor">
    <vt:r8>16711782</vt:r8>
  </property>
  <property fmtid="{D5CDD505-2E9C-101B-9397-08002B2CF9AE}" pid="10" name="MailAddress">
    <vt:lpwstr>training@franz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cobweb\colin\www\franz\users\colin\htdocs\la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