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491-F1DC-45C4-AE51-1EC9C878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CDF-E794-4568-9235-649D6665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103-29F3-434C-83D1-FDAC3FD6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B58-6FB3-41DA-BA26-463F5989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16F-EAD2-47CE-8D27-D287CE3D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8DA-4B57-44AB-9438-3C6444CB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BC1-3B2C-4A47-ACD6-6BB2C932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80C-9A1F-452E-B634-49ECA17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579-60E3-4274-9934-2C29E3E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C6A-F28F-4335-AC52-94890FD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7EB-DA2B-46D4-A56B-F0D5B4B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4E3-44C9-4F76-80F1-846D12D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FB76-FF91-4941-BD7F-925DD54E82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6AD4-2995-414F-9A40-31A281B64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228600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1581120" cy="19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791320"/>
            <a:ext cx="1067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1080" y="5562720"/>
            <a:ext cx="183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o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9A2-1B26-49DB-B0D7-C9DA6988A31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B8512-EA4E-4D84-8CAB-4F1E4783A710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List Operation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h 0 ‘(a b c)) =&gt;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h 2 ‘(a b c)) =&gt;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h 5 '(a b c)) =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ngth '(power gnd clk1 clk2)) --&gt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ngth NIL) --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49E-D525-4BC3-B380-C35C815742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A9F2F-7C97-4CB7-822B-E6288889F709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 of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mber 'dallas '(boston san-francisco portland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&gt; 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mber 'boston '(boston san-francisco portland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&gt; (BOSTON SAN-FRANCISCO PORT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mber 'portland                                                      ‘(boston san-francisco portland)) --&gt; (PORT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other than NIL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86E-330F-4E77-B6C1-D6C2AF0C1D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E19B7-D031-48C8-8249-1F684C9D8075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nion '(1 2 3) '(2 3 4)) --&gt; (1 2 3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tersection '(1 2 3) '(2 3 4)) --&gt; (2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-difference '(1 2 3 4) '(2 3)) --&gt; (4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3E9-E59D-4EB5-8A58-8804CD97DC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8F4D9-FD99-48FA-A453-51E1E1940EE1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/cdr combi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names can be combined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oo '(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car (cdr foo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cadr 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 see combinations up to 4 a’s and d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3FF-5D28-4AD5-AD3E-1E85A1166A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A49A6-A9F4-450D-9FA6-823916BE4288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-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08280" y="2860560"/>
            <a:ext cx="292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b (copy-list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q a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qual a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EA4-1391-4AD0-9B5C-86AEBD5355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BC80F-7F6F-48BC-9F3A-58941BE2487D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copy-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x ‘(a b c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y (copy-list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14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58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0" y="365760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74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5200" y="365760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34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78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3880" y="4419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3920" y="44197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5720" y="449568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04880" y="3661920"/>
            <a:ext cx="83052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860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66880" y="495756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7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1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52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7520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3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7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37339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077320" y="50288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DC7-8964-4EF5-9D91-76AE264F05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C04FD-C666-4211-8049-9DFF311933E8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copy-list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x ‘(a (b) c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y (copy-list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3204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644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0" y="32767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188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32767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3480" y="289872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88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6680" y="4419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040" y="41911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447920" y="3276720"/>
            <a:ext cx="685800" cy="44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596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86000" y="495756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7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1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52880" y="4800240"/>
            <a:ext cx="0" cy="757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520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3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7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4038480"/>
            <a:ext cx="91152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038480"/>
            <a:ext cx="91152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505320"/>
            <a:ext cx="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190760" y="4495680"/>
            <a:ext cx="53316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84440" y="5342040"/>
            <a:ext cx="67788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520" y="449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35053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77320" y="47239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449568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162-10D4-4465-9561-B24A2FD4C2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04116-58E2-465B-A9B3-F94BC3CD49E2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last CONS of a list. Result is NOT the la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count arg, returns nth from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1560" y="3352680"/>
            <a:ext cx="251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ast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ast a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ar (last a 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B1E-17F7-4967-909B-B7929FD639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51F08-5C97-49DD-BB3D-FA85112C6822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s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ies all arg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85320" y="2895480"/>
            <a:ext cx="317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b '(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c '(7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d (append 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F26-E2AB-4D2D-BC82-8E388F0D62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E8CD2-9927-4E22-A513-FCBFFB7AEE1B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con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uctive app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3960" y="1752480"/>
            <a:ext cx="2791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b '(4 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c (nconc a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7E5-4F98-4A7F-810F-B8271A879B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56285-F0DA-418B-8983-1B2636F421EA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i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dered (possibly empty) collection of things in a particular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b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380988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098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81780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37120" y="38098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2136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576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381492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760" y="51055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1800" y="51055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7800" y="51055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240" y="51055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0988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A0A-3650-4500-8A32-70050E8FBD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246B8-1D30-4168-88A2-35B70AB80B1D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la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laca x y - Changes first of x to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(first x) y) is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0440" y="3124080"/>
            <a:ext cx="2759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 (list 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placa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F08-0235-43D2-8A34-9103C0B016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24909-094C-429B-9673-EC4774DBC8C2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lac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lacd x y - Replaces the rest of x with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(rest x) y) is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58160" y="3013200"/>
            <a:ext cx="2329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placd a '(8 9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8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8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0E9-0870-49D0-8899-52E49E1E6E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B3504-8052-4C9B-9655-59C637485A7D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and P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*my-network* '(power gnd input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ush 'clk1 *my-network*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K1 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y-network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K1 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p *my-network*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y-network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834-0C8D-4FA9-9475-3CC3663A661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8D69C-BFFD-456C-A7A2-17F1DB783CF1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q only takes a symbol as first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f takes a form that if executed would access a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a generalized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or if called by itself would retrieve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f of a generalized reference stores a replacemen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q a (list 'red 'green 'blue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(second a) ‘magen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960-C297-4BD1-BBC1-3CFA1F0D27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29F2D-C9F9-483C-971D-9F2B2B6F69BB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item onto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is a generalized reference to a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96840" y="2590920"/>
            <a:ext cx="33382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(list 2 3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(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 ‘x 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1 (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1 (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  9 (third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1 (9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5AE-5168-43DD-87E7-FE3000C4DF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AC986-60EE-4B94-A01F-7A1718BB57C7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if it isn’t there alr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59480" y="2784600"/>
            <a:ext cx="354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(2 3) (4 5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(2 3) (4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new 9 (second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(9 2 3) (4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new 9 (second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B1C-C415-4AE4-8628-AE1385E8F3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8F88E-F6BB-48AE-83E5-BDFCAACEAF1D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op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676520"/>
            <a:ext cx="7772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x '((b) a c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y (copy-list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65760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81280"/>
            <a:ext cx="982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35053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200400"/>
            <a:ext cx="91152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7880" y="3200400"/>
            <a:ext cx="911160" cy="45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3581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3560" y="42670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2040" y="41911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3428640"/>
            <a:ext cx="761760" cy="29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596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495252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7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1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952880" y="4800240"/>
            <a:ext cx="0" cy="757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83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7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505320"/>
            <a:ext cx="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41972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84440" y="5342040"/>
            <a:ext cx="525240" cy="37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80060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35053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77320" y="47239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44956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B5F-ADDD-4387-B005-577F8440146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C6B47-48F5-4841-95F3-D698CF4D6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et som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x '((b) a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y (copy-list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&gt; ((b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&gt; ((b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f (second x) 'k) =&gt;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&gt; ((b) k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&gt; ((b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f (car (first y)) 'm) =&gt;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&gt; ((m) k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&gt; ((m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586-B64B-4410-97B4-E3DC1B68C2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2273F-7CB5-4545-8BC8-A03D9951CE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op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676520"/>
            <a:ext cx="7772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&gt; ((m) k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&gt; ((m) a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343400" y="3581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581280"/>
            <a:ext cx="982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5053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3200400"/>
            <a:ext cx="91152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7880" y="3200400"/>
            <a:ext cx="911160" cy="45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3581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7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040" y="41911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447920" y="3428640"/>
            <a:ext cx="761760" cy="29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596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209680" y="495252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7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1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876920" y="5029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3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7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505320"/>
            <a:ext cx="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441972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84440" y="5342040"/>
            <a:ext cx="525240" cy="37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480060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77320" y="35053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077320" y="47239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44956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38098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C4F-CDFE-412F-84E6-E0781603F1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09AA0-F683-479E-9705-ADC59BAF4D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print-level*, *print-length* control printing depth and length (number or nil for no restri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CL, tpl:*print-level*, tpl:*print-length* control top-level 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RINT always prints the whol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set top-level variables to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653-9789-43B7-9679-0E6E2E653C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242D5-6BB0-4D8B-A8CE-60995F0DE0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with tw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(c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(c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CONS allocates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ons ‘a 7) -&gt; (a .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ons 'a NIL) -&gt;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ons 'a (cons 'b (cons 'c NIL))) -&gt; 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287-6F46-4331-B24B-7B4AAADC55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78442-24CF-4A31-8766-8343CBE8ECDB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prin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tq lis ‘(a (b (c (d (e))))) 2 3 4 5 6 7 8 9 10 1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#)))) 2 3 4 5 6 7 8 9 10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5): (print 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(e))))) 2 3 4 5 6 7 8 9 10 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#)))) 2 3 4 5 6 7 8 9 10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6): (pprint 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(e))))) 2 3 4 5 6 7 8 9 10 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7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0E4-6215-426D-B293-8CF1FC55CA9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19850-9C84-4276-B109-99625599A0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59E-AF1F-4570-B452-B284B767DAE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653D4-2B63-4BB7-B7C9-1958327CEC10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types of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num, 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num, 123123123123123123123123123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change from one to other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s, 7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, 2.333333333333, 8.4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, #c(0 1), #c(7.3 4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6C3-9F9F-4441-8A1B-C73B34436D6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DA359-714B-4F58-AC8B-199FE5600E9C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440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914400" y="1773360"/>
          <a:ext cx="82296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73360"/>
                    <a:ext cx="82296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C69-35A4-484C-A2FC-D2D00C96A10F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F9583-87BE-4C52-8315-0F5DCCB87F34}" type="datetime1">
              <a:rPr lang="en-US"/>
              <a:t>07/31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-positive-fix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-negative-fix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ly maps into underlying hardware’s integer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7C1-68A3-4994-9D2B-B25A08EC87D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11F79-077D-488A-944D-5FC87438D15A}" type="datetime1">
              <a:rPr lang="en-US"/>
              <a:t>07/31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p (+ most-positive-fixnum 1) ‘bignum) --&gt;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p 1 ‘fixnum) --&gt;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45F-C328-4DD9-8C87-3280E685190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75574-328F-4E66-A6E1-9DC18029B04E}" type="datetime1">
              <a:rPr lang="en-US"/>
              <a:t>07/31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operations  are gene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e on all appropriate numer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rce to appropriat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canonic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point conta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conta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canonical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C1C-D74D-4CAF-A987-9E5C9754F70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E67CA-6E98-4D1E-BDE1-17387AF76D14}" type="datetime1">
              <a:rPr lang="en-US"/>
              <a:t>07/31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34e7 and 12340000.0 are read in the float format which is the valu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ead-default-float-format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f, d, or l in place of e gets specif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- or least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gative- or -positiv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 type (short-float, single-float, double-float, long-flo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FB2-492E-4880-B71D-6148CFC45B6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35228-4638-4A58-9CFA-3FD2457ACC85}" type="datetime1">
              <a:rPr lang="en-US"/>
              <a:t>07/31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ion”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- maps a real number to a floating poin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ncate, round, floor, ceiling - map  to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0D1-383F-4FD6-9759-F3463069B85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555DE-FA6A-4E48-A76C-669233D40FE2}" type="datetime1">
              <a:rPr lang="en-US"/>
              <a:t>07/31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1) --&gt;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2/3) --&gt; 0.66666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2/3 1.0d0) --&gt; 0.6666666666666666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0.666667 1.0d0) --&gt;  0.6666666865348816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C0F-E61E-42E2-B128-B64E204ED62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B8571-5713-445C-9A37-4F81BC81B921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NIL, which represents the empty li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 whose cdr i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s ‘a (cons ‘b nil)) -&gt; (a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473-6578-4759-948E-13ECAE67B0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B9E76-11B0-449E-B528-932FAE592462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or, round,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r -- truncates toward negative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iling -- truncates toward positive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ncate -- truncates toward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-- nearest integer, if halfway to 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451-5FAE-48C0-9740-1C3E711B0D8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DB3D9-300B-4228-8386-A188A1E7211C}" type="datetime1">
              <a:rPr lang="en-US"/>
              <a:t>07/31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or 2.5) --&gt; 2  (floor -2.5) --&gt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eiling 2.5) --&gt; 3  (ceiling -2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uncate 2.5) --&gt; 2  (truncate -2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ound 2.49) --&gt; 2  (round 2.51) --&gt;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ound 2.5) --&gt; 2  (round -2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ound 1.5) --&gt; 2  (round -1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7B8-5F67-429E-BF5A-A95255C54FC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F5FB3-B4A6-42B5-B365-AFE38EBEDB05}" type="datetime1">
              <a:rPr lang="en-US"/>
              <a:t>07/31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or and relat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second, optional, argument which is a number by which to divide the first argument; defaults 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wo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24D-8535-46C7-956B-A1D344B4947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DC13D-BE61-438D-9549-D05D49F8FFA6}" type="datetime1">
              <a:rPr lang="en-US"/>
              <a:t>07/31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5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5.0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5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7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99C-9518-441F-83DE-BB360C24214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A6631-9E01-4216-AE82-48018F348770}" type="datetime1">
              <a:rPr lang="en-US"/>
              <a:t>07/31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oss of 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2600" y="2743200"/>
            <a:ext cx="260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numerator 7/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denominator 7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/ 5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/ 5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23E-BEAB-40B5-8A25-255DE215DD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80804-690B-4729-B255-55FE103B4E6C}" type="datetime1">
              <a:rPr lang="en-US"/>
              <a:t>07/31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mplex 0 1) --&gt; #c(0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mplex 1 0) --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mplex 3 2.5) --&gt; #c(3.0 2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alpart #c(0 1)) --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magpart #c(0 1)) --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nents of the complex number can be any type of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EA4-F482-4C44-BD25-8A11F27B0B0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55402-E0E4-4225-9FEF-5FDC2FFCC32C}" type="datetime1">
              <a:rPr lang="en-US"/>
              <a:t>07/31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 F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t x n)  --&gt;  x^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g x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g x)   ;log ba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 x)  --&gt;  e^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qrt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sqrt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E77-47C3-4AEA-8BE4-076D9E4C43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DFDE3-3205-4C2E-A674-972F6A254059}" type="datetime1">
              <a:rPr lang="en-US"/>
              <a:t>07/31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 F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n theta-in-radi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s theta-in-radi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an theta-in-radi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A55-B942-4CD6-BEAE-604F6797050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A89F8-ACD2-4788-910B-CF1DF9C06EF2}" type="datetime1">
              <a:rPr lang="en-US"/>
              <a:t>07/31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f and de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83520" y="2860560"/>
            <a:ext cx="540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setq a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incf a) ; equivalent to (setf a (+ a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incf a 4) ; equivalent to (setf a (+ a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decf a) ; equivalent to (setf a (- a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D6F-06E4-4B09-9532-152F7EB149C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251FE-3801-474F-BD86-DBF3618425D9}" type="datetime1">
              <a:rPr lang="en-US"/>
              <a:t>07/31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ession on macro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f and decf are macros (as are push and p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expand transforms a macro call into underlying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9): (setq a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30): (macroexpand '(incf 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tq a (+ a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31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055-1806-4160-829B-EBD92D00D32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CE3CF-5F2B-4935-BCDF-2CDA7C5F5E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mpty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 evaluates to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car nil) =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cdr nil) =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456-5FCE-424A-9749-0F107D4C47A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79BB6-35CE-45D5-9CD4-41576E80DA8A}" type="datetime1">
              <a:rPr lang="en-US"/>
              <a:t>07/31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51F-EF02-4776-BD8D-47F68446C0F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D3B40-7EC1-4D9B-9A34-7C74617CAF82}" type="datetime1">
              <a:rPr lang="en-US"/>
              <a:t>07/31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-of &lt;object&gt;) --&gt; most specif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p &lt;object&gt; &lt;type&gt;) --&gt; T or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D72-A9EC-4FBF-B3F7-F8E9A7870188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2A1FD-51F1-4A29-B098-F00CEE7144FA}" type="datetime1">
              <a:rPr lang="en-US"/>
              <a:t>07/31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ata structur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(chains of CONS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8C6-0AE0-49DF-8215-66DB04D4FA4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9CE2E-05C1-4E35-9F4A-657A49B752B3}" type="datetime1">
              <a:rPr lang="en-US"/>
              <a:t>07/31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must 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8 dimens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rray-rank-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1024 elements per dimen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-dimension-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ither store general objects (of type T) or more specializ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single-floats or of double-flo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8BC-4831-4D64-8A66-D32F9065B93C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216AE-CD2B-44B0-AF3B-B3E53222B4FF}" type="datetime1">
              <a:rPr lang="en-US"/>
              <a:t>07/31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1981080"/>
            <a:ext cx="7239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arr (make-array '(2 3) :initial-element ni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A((NIL NIL NIL) (NIL NIL NI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rr 0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rr 0 0) '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rr 0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A((B NIL NIL) (NIL NIL NI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BE0-3A8B-4309-8753-323842A2BC3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008F-B660-470D-9507-87CB8AA9D441}" type="datetime1">
              <a:rPr lang="en-US"/>
              <a:t>07/31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s are 1-dimensional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19680" y="2438280"/>
            <a:ext cx="474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vec (make-array 4 :initial-element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0 0 0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0 0 0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vec (vector "a" 'b 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"a" B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"a" B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aref vec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vref vec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C44-0215-48B7-BF83-1372B9D6AE48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AD2B2-5D18-4BBE-B763-BD31073BAF22}" type="datetime1">
              <a:rPr lang="en-US"/>
              <a:t>07/31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-76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are vectors of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with ch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30880" y="2057400"/>
            <a:ext cx="3539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tring1 "abc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bc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string1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har string1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har string1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char string1 2) #\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tring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bZ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72E-3DE8-4AA2-A0EA-9CAC487FE9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AB0C0-2649-44DD-A4D2-26D99FF0EB20}" type="datetime1">
              <a:rPr lang="en-US"/>
              <a:t>07/31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-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-les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-greate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1320" y="4191120"/>
            <a:ext cx="5305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 (string= "foo" "Fo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 (string-equal "foo" "Fo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879-53B3-477B-A84D-6E79AC91F42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F9F6E-5C50-49D4-9F09-628E6D2A288B}" type="datetime1">
              <a:rPr lang="en-US"/>
              <a:t>07/31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trim '(#\space) " five ten   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ive ten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trim '(#\space #\$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$5.73, $8.40   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5.73, $8.40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upcase “fiv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capitalize “fiv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 ‘f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C4C-4E39-4AF5-8E88-4FD3E062079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07598-78FA-4C0D-BDA6-F4263E2E4901}" type="datetime1">
              <a:rPr lang="en-US"/>
              <a:t>07/31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Alphabetizing str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lt; “apples” “banana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Also string&gt;, string&lt;=, string&gt;=, string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lt; “this” “tha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gt; “this” “tha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lt; “abc” “abc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1D4-11C8-4847-8F68-D6EBBB7E78EB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6EA4B-EC81-43F5-B93D-740FF36267EB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ist 'boston 'distance (* speed ti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BOSTON DISTANCE 18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hen the elements are all the s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ke-list 3 :initial-element 'den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NVER DENVER DEN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3B6-C891-4C97-9B3B-FA5A329B60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6173C-5405-4FEA-A81C-A71A402D4081}" type="datetime1">
              <a:rPr lang="en-US"/>
              <a:t>07/31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equ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s (and therefore str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 list functions already mentioned are sequence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0B7-967B-4C0A-92C4-C8C0359B68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3B8AE-8703-4C08-BCEF-76C411675DCA}" type="datetime1">
              <a:rPr lang="en-US"/>
              <a:t>07/31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vs Vector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allocate a small piece of list structure and splice i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o allocate whole vector at on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ime proportional to n to get nth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go back to previous element from on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2F2-6904-4DBE-8909-B3338716F0EE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5E612-8E0E-4490-9F4E-A06F4F295383}" type="datetime1">
              <a:rPr lang="en-US"/>
              <a:t>07/31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1560" y="2379240"/>
            <a:ext cx="769752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function similar to aref, svref, 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95720" y="3352680"/>
            <a:ext cx="290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'(a b c)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"abc"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(vector 1 2 3)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nil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37A-9F33-45D7-A85D-2537C11F84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EF9AE-B35C-4910-8331-1A0E7142C520}" type="datetime1">
              <a:rPr lang="en-US"/>
              <a:t>07/31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position of its first argument in the sequence which is its second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40360" y="3394080"/>
            <a:ext cx="6133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position #\r "microprocess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position #\r "microprocessor" :from-end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position 'b '(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3B5-EE91-4899-ADE3-3616F5F9CA4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CD811-3CB4-4352-B0A6-E7C597985312}" type="datetime1">
              <a:rPr lang="en-US"/>
              <a:t>07/31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es for an item in a sequ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item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19920" y="3048120"/>
            <a:ext cx="3816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find #\a "cat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\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find 1000 '( 1 2 4 8 10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find 5 '(1 2 3 4 10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44E-FCEA-4C7C-8006-FAA0FAA3AA90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F877A-94F2-4419-AEA4-3C44008F8018}" type="datetime1">
              <a:rPr lang="en-US"/>
              <a:t>07/31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1050840"/>
            <a:ext cx="716436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'(13 61 34 33 4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'(13 61 34 33 45) :test '&l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defun is-double-of (num1 nu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 (* 2 num1) num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-doubl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'(13 61 34 33 4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test ’is-double-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defun car-is-double-of (num-arg list-a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 (* 2 num-arg) (car list-arg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-is-doubl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13 31) (61 16) (34 43) (33 33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test  ’car-is-double-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4 4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E6B-20D6-4F52-82C1-C7CCAF902D41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8E7D7-3512-42AE-A7FC-6BD0C5237FE5}" type="datetime1">
              <a:rPr lang="en-US"/>
              <a:t>07/31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: find a subsequence 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arch “abc” “123abc456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3 (location of beginning of seq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eq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nil if no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ce must not have intervening elemen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arch ’(a b c) ’(a 1 b 2 c)) -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87B-7295-4314-BD8C-A425761A1951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E8BA3-63E9-43FB-B2B0-FFB7E517DA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part of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bseq '(a b c d) 1 ) --&gt; (B C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bseq '(a b c d) 1 2) --&gt; 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45C-EFED-484A-BC47-58F7F14B0CEF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B0109-0235-48FC-BA8B-60DA0741B23C}" type="datetime1">
              <a:rPr lang="en-US"/>
              <a:t>07/31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sequenc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ies top level of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s how list elements are hook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193-1115-455C-ADF4-1D726535151C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7FC90-D51E-4C6A-804B-01C6FCEB70A5}" type="datetime1">
              <a:rPr lang="en-US"/>
              <a:t>07/31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ort '(1 3 5 7 2 4 6) '&lt;) --&gt; (1 2 3 4 5 6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ort '(1 3 5 7 2 4 6) '&gt;) --&gt; (7 6 5 4 3 2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is a destructive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ant to capture the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(setq a (sort a ‘&lt;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7D0-CE7A-4B3F-88BB-25DFB755EDA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F8DF8-88C4-4EEE-B4DA-E94BA2F74735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 for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can be simple or hav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on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a 1) (b 2) (c 3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a . 1) (b . 2) (c . 3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a 1 mary) (b 2 donna)…(w 7 hen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s a key with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:a 1 :b 2 :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of associating a key with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9AC-F038-4A32-9BCB-93BF51B6D5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32470-E22B-4B73-91C3-24C062C9C447}" type="datetime1">
              <a:rPr lang="en-US"/>
              <a:t>07/31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s items from a sequence non-destructively, i.e. copies th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4880" y="3352680"/>
            <a:ext cx="32011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 3 2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 2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3 4 3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F8A-E8BD-4510-BD00-2B9C620915D4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918FE-B050-44F1-8963-CB4C2D0B8DAD}" type="datetime1">
              <a:rPr lang="en-US"/>
              <a:t>07/31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s items from a sequence destructively, i.e. splices th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41560" y="2955960"/>
            <a:ext cx="3587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q a (list 1 2 3 4 3 2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2 3 4 3 2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q a (delete 2 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3 4 3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3 4 3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lete 1 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 4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3 4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2C9-423C-4373-A6CF-6BCC31C12D7B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5242E-E38E-48D3-BC80-4581BBA12B86}" type="datetime1">
              <a:rPr lang="en-US"/>
              <a:t>07/31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e-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a sequence f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71720" y="2666880"/>
            <a:ext cx="5429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-duplicates "abracadabra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cdb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-duplicates "abracadab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from-end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brcd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-duplicates '(a a b 5 7 7 "hello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B 5 7 "hel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A2C-2A14-419F-87A0-3884E8584D84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DC312-A461-4F2B-831D-64B437B27011}" type="datetime1">
              <a:rPr lang="en-US"/>
              <a:t>07/31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-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duplicates destru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6880" y="2860560"/>
            <a:ext cx="3825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2 3 4 4 5 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4 5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lete-duplicates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2B2-068A-4705-A03B-D86883EB83E4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045B9-9B68-4BF3-892A-E435DF0079FE}" type="datetime1">
              <a:rPr lang="en-US"/>
              <a:t>07/31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 sequence in which the order of the elements in the argument sequence is rever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15000" y="3584520"/>
            <a:ext cx="251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verse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890-5384-42FE-9A40-2D3D3C288F6D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C7EFF-4A20-493D-807F-31ACDD5EF34B}" type="datetime1">
              <a:rPr lang="en-US"/>
              <a:t>07/31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re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uctive version of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5480" y="2895480"/>
            <a:ext cx="2911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nreverse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772-280B-47BE-A350-6ED6EB102127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96399-DAD4-481B-89C3-490BFA42AB7B}" type="datetime1">
              <a:rPr lang="en-US"/>
              <a:t>07/31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s an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867-5EF8-45E4-86A0-3EAF85A8007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9AC34-CFE3-4AA6-BCAD-33AC4D422A1B}" type="datetime1">
              <a:rPr lang="en-US"/>
              <a:t>07/31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eam is an object that is a source of input and/or a destination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stream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to and/or from the terminal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to and/or from a character or binary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to and/or from an X window or Windows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ke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AE4-1EF9-420A-ADC7-102DB8FFFB50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7141C-26D3-45F7-8A98-9E415D86F330}" type="datetime1">
              <a:rPr lang="en-US"/>
              <a:t>07/31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-open-fi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ith-open-file (I “foo.lis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line (read-line I nil nil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eq1 line nil) (retur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rite-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standard-output*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46F-8501-4428-8D05-BA439101FED9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C3784-C2C4-4430-AD6C-5DD06952D4E0}" type="datetime1">
              <a:rPr lang="en-US"/>
              <a:t>07/31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d Stream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tandard-input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ream for read-line, read-char, rea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tandard-output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ream for write-line, write-string,pri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terminal-io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is ordinarily connected to the user’s 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place to print log messages and w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trace-output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eam for trace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query-io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ream for stream-y-or-n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1BD-6DD9-4D4E-9776-F15C2840206B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E480B-00D9-4102-9E03-F979A5344595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are an extremely useful data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is unbounded (except by memory constra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ther languages you must write your own list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ists are so fundamental to Lisp there are many built functions to manipulate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82F-5D00-4AB0-86E1-341FD5325E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305ED-FDC2-4266-9539-C275346B1447}" type="datetime1">
              <a:rPr lang="en-US"/>
              <a:t>07/31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file streams using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are filename and keywor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direction -- :input, :output, :IO, or :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element-type -- :character or ‘(unsigned-byte 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if-does-not-exist -- :error , :create, or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if-exists -- :supersede, :overwrite, :error,  :append or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6F6-0476-4FEB-B0F5-6AFFBBA9CB8A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13C3C-9105-4D6F-903C-A680450EFC9C}" type="datetime1">
              <a:rPr lang="en-US"/>
              <a:t>07/31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streams must be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lose 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may appear to be empty until you clo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-open-file is the preferred way to open and close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1720" y="2971800"/>
            <a:ext cx="5726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t ((stream (open “c:\\junk.tx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direction :outpu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int ‘hello-world 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ose strea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; Or equivalen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ith-open-file (stream “c:\\junk.tx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direction :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int ‘hello-world strea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55C-1817-430B-81CF-12CC01A99435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05893-9F7E-4C76-B7D6-58EC48F4B289}" type="datetime1">
              <a:rPr lang="en-US"/>
              <a:t>07/31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often have to parse data that is not already in Lisp format. A standard way to parse text data is to read it as strings with read-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-line arguments: &amp;optional stream eof-error-p eof-value recursive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read-line strea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&gt; “Four score and seven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Signals an error when EOF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read-line stream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Returns NIL when EOF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3B1-96B6-4268-8C99-7D6E96C06C5C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95DF7-91F2-477F-8DA1-F72263B17BE9}" type="datetime1">
              <a:rPr lang="en-US"/>
              <a:t>07/31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lin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===&gt;Mail arrives Jun 23 13:51:40 xxx.some.com sendmail[14867]: [ID 822293 mail.info] i5NIpeJu014867: from=&lt;user2@some.com&gt;, size=6554, msgid=&lt;B34440A345677F5F480CA4C4E3C54B@officer.corp.some.com&gt;, proto=SMTP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F36-FCE9-42DD-87F0-8567924D242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AA27E-7769-4148-A67E-2FD107D958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 ((text "") line from id f1 f2 i1 i2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block rea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(loo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(setq l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(read-line stream nil nil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(if line (setq tex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(concatenate ‘st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text line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(return-from reading)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;; now TEXT is a string contai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;; all messag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EA5-22FF-413D-804A-F12A6CC26748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7B4F7-3DB9-4F91-A21D-4AC1568257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e the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1 (+ 6 (search "from=&lt;" tex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2 (position #\&gt; text :start f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rom (subseq text f1 f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i1 (+ 7 (search "msgid=&lt;" text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i2 (position #\&gt; text :start i1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id (subseq text i1 i2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values from 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;; closes off let form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2@some.com B34440A345677F5F480CA4C4E3C54B@officer.corp.som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09E-D63E-4C2A-96D8-C13F1E728D45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B6C0A-2C0D-45B3-ABBC-9064D83343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-l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uments: string &amp;optional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key star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rite-line "We hold these truths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rites text and newline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rite-line "We hold these truths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 :start 0 :end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rites 'We ' and newline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31C-0529-4788-9F5D-0B649F9B3E9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1A51E-6C3F-404D-AD41-9FF61113C6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nd Writ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-string “Hello world”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Writes string but no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ad-char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#\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Reads a singl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-char #\H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Writes a singl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erpri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Writes a new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8F4-EC1A-4E5B-AF0A-53FA0C140563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1BC14-3997-4D01-979B-4C6D7F4B74EE}" type="datetime1">
              <a:rPr lang="en-US"/>
              <a:t>07/31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Input and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 object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Outputs the print representation of OB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 Returns its object arg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ad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Reads an object from an ascii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Most objects are print-read compat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Lists, numbers, strings, symbols, vecto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arrays, lisp source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FBF-0FE9-45E0-8D50-576B53C8B5B3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5D552-3A3F-489D-84DC-F89F6341470D}" type="datetime1">
              <a:rPr lang="en-US"/>
              <a:t>07/31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Ways to 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function WRITE is rather un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print readably with prepended #\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“Five” stre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print readably, without prepended #\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“Five”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print it pret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c “Five”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C68-6DC2-45D9-9FE8-B474BA8816A5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284F2-6BA6-4C67-A1F9-28CCACEBD561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Li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rst '(a b c))  --&gt;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rst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st '(a b c)) --&gt; (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st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'(a b c)) -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(first (rest '(a b c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rd '(a b c)) -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rd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342-BBC2-48F0-9775-24615DDEC4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CF1AC-55D8-4C6D-956E-3E5C515D9ADC}" type="datetime1">
              <a:rPr lang="en-US"/>
              <a:t>07/31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ith-open-file  (stream “c:\\junk.b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direction :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element-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unsigned-byte 8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-byte 255 stream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ith-open-file  (stream “c:\\junk.b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element-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unsigned-byte 8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ad-byte stream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844-AED1-4A4D-B6F5-D23057F18B5E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07DED-6A80-45A4-838C-31C59DA9BE6E}" type="datetime1">
              <a:rPr lang="en-US"/>
              <a:t>07/31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name is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amestring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tream creating and file functions use pathnames as arg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672-941B-409A-972D-C2711EB96A56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4049F-2E2F-40D9-BF43-790AF2755DB8}" type="datetime1">
              <a:rPr lang="en-US"/>
              <a:t>07/31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ath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q p (path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:\\windows\\system\\user32.dll"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:\\windows\\system\\user32.d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name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user32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type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dl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(pathname-version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un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851-D5AA-43C6-97C2-EAB8971C0FE8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2DB36-4668-4EB7-9282-8B8891C0FCF3}" type="datetime1">
              <a:rPr lang="en-US"/>
              <a:t>07/31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athname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directory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:absolute " windows " " system 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host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device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 c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F75-2620-4BEF-B66A-ACF54A86F82E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1C577-02D5-4B58-885B-C5F3F90B0AA1}" type="datetime1">
              <a:rPr lang="en-US"/>
              <a:t>07/31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d on Backsl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ckslash character(\) is used to “escape” the next character in a string or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riend was \”curious\”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:\\windows\\system\\user32.d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\a =&gt; |TESTa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E58-9D22-4A11-BBFA-7081E484E289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16CFD-A9CA-49FB-B224-5998B1DBBAF0}" type="datetime1">
              <a:rPr lang="en-US"/>
              <a:t>07/31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-path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ke-path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device “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name “user3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type “d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directory ‘(:absolute “window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p”c:\\windows\\system\user32.d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991-53B3-4BD3-8110-85C58CF1D8F5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FDA13-677B-40BD-85C7-27E77CC62BF7}" type="datetime1">
              <a:rPr lang="en-US"/>
              <a:t>07/31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path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fields in first argument are provided by second argu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erge-path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ke-pathname :name “odbc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p”c:\\windows\\system\\user32.dll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p”c:\\widows\\system\\odbc.d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argument defaults to the value of *default-pathname-defaul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09B-CB3C-48C9-B50E-457B297791C4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3BD3D-F781-4D01-BD4D-84A6F4D25D91}" type="datetime1">
              <a:rPr lang="en-US"/>
              <a:t>07/31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-file -- original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-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e-file -- returns true if file is the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tual return value is truename of fil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-write-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 -- list of pathnames in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-- loads a lisp source of fasl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4B5-EC22-4C24-BF48-30B71FD90469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B69BB-049C-4FD9-BB8B-7FBDE80BBA36}" type="datetime1">
              <a:rPr lang="en-US"/>
              <a:t>07/31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irecto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:/windows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directory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7F7-266E-4BBA-8301-F945A3D104E1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BD7A1-4773-49E7-9A5E-E8FC5359606A}" type="datetime1">
              <a:rPr lang="en-US"/>
              <a:t>07/31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s the las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notes and homework available, online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anz.com/lab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-one help via email at training@franz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DA9-0611-4F32-9858-5CF1CE38F688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7ADB5-C62B-42AE-8CDB-E61AB297F3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23:01:26Z</dcterms:created>
  <dc:creator>Liliana Avila</dc:creator>
  <dc:description/>
  <dc:language>en-US</dc:language>
  <cp:lastModifiedBy>ssears</cp:lastModifiedBy>
  <cp:lastPrinted>2004-01-22T23:25:44Z</cp:lastPrinted>
  <dcterms:modified xsi:type="dcterms:W3CDTF">2010-09-15T12:24:44Z</dcterms:modified>
  <cp:revision>104</cp:revision>
  <dc:subject/>
  <dc:title>Allegro CL Certification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