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C0DC-D511-4143-B67A-7C3F872CA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F15E-93EE-4E84-9B84-0F9536405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901B-06EA-4F34-8B84-2B98A942D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4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2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4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2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6D54-45C7-40D2-916C-BD2AC5D8E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423F-BE62-4231-841F-128571738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EF1D-372B-408B-9296-BA1B445B5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8B55-8851-4CD6-84F3-FDC0A1E0D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445F-5DF9-461A-BB6A-809157807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DE69-933F-4D33-8777-B9F82A5D7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FF47-A1A3-4312-A0FC-99BE33D5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9D7A-7073-43DE-91BE-6B536CFA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7CA0-E678-450B-8001-DE3AB8128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F8647-50AB-4062-A988-545D76E149A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06DC1-E8F6-4E79-AC68-C968AB7249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egro CL Certification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p Programming Series Level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1.3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ipulating L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05320" y="762120"/>
            <a:ext cx="2286000" cy="1511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391520" y="4724280"/>
            <a:ext cx="1581120" cy="1981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066680" y="5791320"/>
            <a:ext cx="10670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1080" y="5562720"/>
            <a:ext cx="1832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go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55AF-52A5-4631-BD9D-3C59AF0061D0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325D39-76E6-433C-A903-F54853DAC615}" type="datetime1">
              <a:rPr lang="en-US"/>
              <a:t>07/28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List Operation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th 0 ‘(a b c)) =&gt;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th 2 ‘(a b c)) =&gt;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th 5 '(a b c)) =&gt; n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length '(power gnd clk1 clk2)) --&gt;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length NIL) --&gt;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CC38-2A27-4537-BDC9-28FB972BCCD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8CCFA3-8206-4BBC-9B2F-0F557E33063E}" type="datetime1">
              <a:rPr lang="en-US"/>
              <a:t>07/28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mber of a l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member 'dallas '(boston san-francisco portland)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&gt; N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member 'boston '(boston san-francisco portland)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&gt; (BOSTON SAN-FRANCISCO PORTLAN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member 'portland                                                      ‘(boston san-francisco portland)) --&gt; (PORTLAN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thing other than NIL is 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10B5-0745-490C-BDC1-C5277DC9AC2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98F947-463C-40F0-A3CD-93F5D6AFFC80}" type="datetime1">
              <a:rPr lang="en-US"/>
              <a:t>07/28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 Oper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union '(1 2 3) '(2 3 4)) --&gt; (1 2 3 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intersection '(1 2 3) '(2 3 4)) --&gt; (2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et-difference '(1 2 3 4) '(2 3)) --&gt; (4 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66CB-1BCF-422A-A593-615327B945B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100899-6FFA-4E0C-95B4-F7FFA4F52535}" type="datetime1">
              <a:rPr lang="en-US"/>
              <a:t>07/28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r/cdr combin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names can be combined, e.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setq foo '(1 2 3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car (cdr foo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written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cadr fo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casionally see combinations up to 4 a’s and d’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1F59-EF14-4C01-802E-880408B9962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B99970-CD7B-4DD4-ACE2-532CDAD22F74}" type="datetime1">
              <a:rPr lang="en-US"/>
              <a:t>07/28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py-l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py a 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08280" y="2860560"/>
            <a:ext cx="2920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setq a '(1 2 3 4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 2 3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setq b (copy-list a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 2 3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eq a 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equal a 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68C3-1F47-4ADD-B5DE-CA0B765F5CA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192242-D811-4774-B55E-BAC65F69746E}" type="datetime1">
              <a:rPr lang="en-US"/>
              <a:t>07/28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copy-l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38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etf x ‘(a b c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etf y (copy-list x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11480" y="3278160"/>
            <a:ext cx="911160" cy="758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25880" y="3278160"/>
            <a:ext cx="911160" cy="758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66880" y="3665520"/>
            <a:ext cx="0" cy="754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0" y="3657600"/>
            <a:ext cx="982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97480" y="3278160"/>
            <a:ext cx="911160" cy="758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11880" y="3278160"/>
            <a:ext cx="911160" cy="758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52880" y="3665520"/>
            <a:ext cx="0" cy="754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875200" y="3657600"/>
            <a:ext cx="982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83480" y="3278160"/>
            <a:ext cx="911160" cy="758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7880" y="3278160"/>
            <a:ext cx="911160" cy="758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38880" y="3665520"/>
            <a:ext cx="0" cy="754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13880" y="441972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23920" y="441972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09920" y="4419720"/>
            <a:ext cx="366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95720" y="4495680"/>
            <a:ext cx="636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604880" y="3661920"/>
            <a:ext cx="830520" cy="220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18600" y="358128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8600" y="449568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31800" y="5189400"/>
            <a:ext cx="677880" cy="525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11480" y="5411880"/>
            <a:ext cx="911160" cy="758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25880" y="5411880"/>
            <a:ext cx="911160" cy="758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666880" y="4957560"/>
            <a:ext cx="0" cy="677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89200" y="5791320"/>
            <a:ext cx="982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97480" y="5411880"/>
            <a:ext cx="911160" cy="758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11880" y="5411880"/>
            <a:ext cx="911160" cy="758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952880" y="4957920"/>
            <a:ext cx="0" cy="830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875200" y="5791320"/>
            <a:ext cx="982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3480" y="5411880"/>
            <a:ext cx="911160" cy="758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97880" y="5411880"/>
            <a:ext cx="911160" cy="758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7238880" y="4957920"/>
            <a:ext cx="0" cy="830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077320" y="3733920"/>
            <a:ext cx="0" cy="753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8077320" y="502884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8591-AABD-4243-9CB7-A11B211C032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F30B19-B6CB-4521-84BF-FE23A51818BA}" type="datetime1">
              <a:rPr lang="en-US"/>
              <a:t>07/28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copy-list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138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etf x ‘(a (b) c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etf y (copy-list x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32040" y="2895480"/>
            <a:ext cx="911160" cy="758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746440" y="2895480"/>
            <a:ext cx="911160" cy="758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09680" y="3665520"/>
            <a:ext cx="0" cy="754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89200" y="3276720"/>
            <a:ext cx="982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2895480"/>
            <a:ext cx="911160" cy="758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411880" y="2895480"/>
            <a:ext cx="911160" cy="758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5880" y="3276720"/>
            <a:ext cx="762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83480" y="2898720"/>
            <a:ext cx="911160" cy="758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97880" y="2895480"/>
            <a:ext cx="911160" cy="758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238880" y="3665520"/>
            <a:ext cx="0" cy="754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56680" y="441972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009920" y="4419720"/>
            <a:ext cx="366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040" y="4191120"/>
            <a:ext cx="636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1447920" y="3276720"/>
            <a:ext cx="685800" cy="449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65960" y="358128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18600" y="449568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31800" y="5189400"/>
            <a:ext cx="677880" cy="525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28800" y="5411880"/>
            <a:ext cx="911160" cy="758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743200" y="5411880"/>
            <a:ext cx="911160" cy="758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286000" y="4957560"/>
            <a:ext cx="0" cy="677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52680" y="5791320"/>
            <a:ext cx="982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97480" y="5411880"/>
            <a:ext cx="911160" cy="758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11880" y="5411880"/>
            <a:ext cx="911160" cy="758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4952880" y="4800240"/>
            <a:ext cx="0" cy="757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875200" y="5791320"/>
            <a:ext cx="982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83480" y="5411880"/>
            <a:ext cx="911160" cy="758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97880" y="5411880"/>
            <a:ext cx="911160" cy="758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7238880" y="4957920"/>
            <a:ext cx="0" cy="830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95680" y="4038480"/>
            <a:ext cx="911520" cy="758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4038480"/>
            <a:ext cx="911520" cy="758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52880" y="3505320"/>
            <a:ext cx="0" cy="525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4190760" y="4495680"/>
            <a:ext cx="53316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84440" y="5342040"/>
            <a:ext cx="677880" cy="525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9520" y="449568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077320" y="3505320"/>
            <a:ext cx="0" cy="753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8077320" y="4723920"/>
            <a:ext cx="0" cy="838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48520" y="4495680"/>
            <a:ext cx="1523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F14E-7B1E-474A-A377-FCE0E297AAA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35B8A6-83E2-4F3B-BADE-A5842BA04DB1}" type="datetime1">
              <a:rPr lang="en-US"/>
              <a:t>07/28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s the last CONS of a list. Result is NOT the last el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onal count arg, returns nth from l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121560" y="3352680"/>
            <a:ext cx="2515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setq a '(1 2 3 4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 2 3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last 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last a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car (last a 2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67F3-E072-4A91-876D-84AD8697C79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26E339-DF3D-4AD7-B84E-FC04BF4FF51D}" type="datetime1">
              <a:rPr lang="en-US"/>
              <a:t>07/28/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ends l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pies all arg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ce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885320" y="2895480"/>
            <a:ext cx="3171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setq a '(1 2 3 4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 2 3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setq b '(5 6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5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setq c '(7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setq d (append a b c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 2 3 4 5 6 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27C4-980D-4C04-8129-55D391D9823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B3EF21-E0E1-4415-8277-0A9B03653689}" type="datetime1">
              <a:rPr lang="en-US"/>
              <a:t>07/28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con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040" y="11426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tructive app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443960" y="1752480"/>
            <a:ext cx="279108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setq a '(1 2 3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 2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setq b '(4 5 6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 5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setq c (nconc a b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 2 3 4 5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 2 3 4 5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 5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 2 3 4 5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70A3-CF69-45EF-A7E2-D9F5082AADC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F14735-9900-47CD-BF4F-A52E8D98EBD3}" type="datetime1">
              <a:rPr lang="en-US"/>
              <a:t>07/28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Lis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rdered (possibly empty) collection of things in a particular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b 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657600"/>
            <a:ext cx="911160" cy="758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0" y="3657600"/>
            <a:ext cx="911160" cy="758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3809880"/>
            <a:ext cx="0" cy="1135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43200" y="3809880"/>
            <a:ext cx="982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3657600"/>
            <a:ext cx="911160" cy="758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648320" y="3657600"/>
            <a:ext cx="911160" cy="758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91120" y="3817800"/>
            <a:ext cx="0" cy="1135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37120" y="3809880"/>
            <a:ext cx="982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21360" y="3657600"/>
            <a:ext cx="911160" cy="758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35760" y="3657600"/>
            <a:ext cx="911160" cy="758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77120" y="3814920"/>
            <a:ext cx="0" cy="1135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51760" y="510552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61800" y="5105520"/>
            <a:ext cx="41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7800" y="5105520"/>
            <a:ext cx="366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086240" y="5105520"/>
            <a:ext cx="636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91520" y="3809880"/>
            <a:ext cx="0" cy="1135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43CF-830F-4468-8CD0-0EA64251948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B73A91-FD7E-4D83-B2E4-BF8899D901C5}" type="datetime1">
              <a:rPr lang="en-US"/>
              <a:t>07/28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la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laca x y - Changes first of x to 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etf (first x) y) is equival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00440" y="3124080"/>
            <a:ext cx="27590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setq a  (list 1 2 3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 2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rplaca a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 2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 2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991C-401F-40F2-9E40-6D8941978E7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CD3ED8-77B0-4040-97CA-0BB620D37CD7}" type="datetime1">
              <a:rPr lang="en-US"/>
              <a:t>07/28/26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lac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lacd x y - Replaces the rest of x with 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etf (rest x) y) is equival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58160" y="3013200"/>
            <a:ext cx="232920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setq a '(1 2 3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 2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rplacd a '(8 9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 8 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 8 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8DE2-85DE-4424-B5BC-C475EE320ED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6B24F2-89AB-4C8E-9B49-C8D3BB4349D2}" type="datetime1">
              <a:rPr lang="en-US"/>
              <a:t>07/28/26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shing and Pop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tq *my-network* '(power gnd input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WER GND INP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ush 'clk1 *my-network*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LK1 POWER GND INP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my-network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LK1 POWER GND INP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p *my-network*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K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my-network*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WER GND INP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CBEA-8B86-4366-8EC2-61F9143D681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6CD940-63E7-403E-957D-F4F0C7AE2F55}" type="datetime1">
              <a:rPr lang="en-US"/>
              <a:t>07/28/26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68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q only takes a symbol as first arg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f takes a form that if executed would access a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ed a generalized re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or if called by itself would retrieve a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f of a generalized reference stores a replacement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etq a (list 'red 'green 'blue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etf (second a) ‘magent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7332-D21D-4032-AC64-38BD6B0FCCE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718A5C-7C40-4FF3-8D24-B058536DD87E}" type="datetime1">
              <a:rPr lang="en-US"/>
              <a:t>07/28/26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sh item onto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 is a generalized reference to a li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796840" y="2590920"/>
            <a:ext cx="333828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setq a (list 1 (list 2 3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 (2 3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push ‘x a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 1 (2 3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 1 (2 3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push  9 (third a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9 2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 1 (9 2 3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A0C0-C3FC-431F-82AD-ED1FA1199D1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87742E-93C9-404C-9036-E349FBE6F4D9}" type="datetime1">
              <a:rPr lang="en-US"/>
              <a:t>07/28/26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shn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sh if it isn’t there alrea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59480" y="2784600"/>
            <a:ext cx="3548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setq a (list 1 (2 3) (4 5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 (2 3) (4 5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pushnew 9 (second a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9 2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 (9 2 3) (4 5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pushnew 9 (second a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9 2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5191-F1CA-43BA-91FB-E54FAFEE473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D04699-EFD5-4721-8253-9892D2A56F83}" type="datetime1">
              <a:rPr lang="en-US"/>
              <a:t>07/28/26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on cop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28954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66680" y="1676520"/>
            <a:ext cx="777240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etf x '((b) a c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etf y (copy-list x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828800" y="3200400"/>
            <a:ext cx="91116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43200" y="3200400"/>
            <a:ext cx="91116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76920" y="3657600"/>
            <a:ext cx="0" cy="754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81280"/>
            <a:ext cx="982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95680" y="3200400"/>
            <a:ext cx="9115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10080" y="3200400"/>
            <a:ext cx="9115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5880" y="3505320"/>
            <a:ext cx="762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781680" y="3200400"/>
            <a:ext cx="911520" cy="4572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97880" y="3200400"/>
            <a:ext cx="911160" cy="4539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238880" y="3581280"/>
            <a:ext cx="0" cy="838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723560" y="426708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009920" y="4419720"/>
            <a:ext cx="366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772040" y="4191120"/>
            <a:ext cx="636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447920" y="3428640"/>
            <a:ext cx="761760" cy="29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65960" y="358128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18600" y="449568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31800" y="5189400"/>
            <a:ext cx="677880" cy="525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828800" y="5411880"/>
            <a:ext cx="911160" cy="4554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5411880"/>
            <a:ext cx="911160" cy="4554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209680" y="4952520"/>
            <a:ext cx="0" cy="677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52680" y="5638680"/>
            <a:ext cx="982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497480" y="5411880"/>
            <a:ext cx="911160" cy="4554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411880" y="5411880"/>
            <a:ext cx="911160" cy="4554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952880" y="4800240"/>
            <a:ext cx="0" cy="757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867280" y="5638680"/>
            <a:ext cx="982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783480" y="5411880"/>
            <a:ext cx="911160" cy="4554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697880" y="5411880"/>
            <a:ext cx="911160" cy="4554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7238880" y="4957920"/>
            <a:ext cx="0" cy="830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4114800"/>
            <a:ext cx="911160" cy="758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743200" y="4114800"/>
            <a:ext cx="911160" cy="758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362320" y="3505320"/>
            <a:ext cx="0" cy="525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0" y="4419720"/>
            <a:ext cx="22860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684440" y="5342040"/>
            <a:ext cx="525240" cy="372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438280" y="4800600"/>
            <a:ext cx="533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077320" y="3505320"/>
            <a:ext cx="0" cy="753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8077320" y="4723920"/>
            <a:ext cx="0" cy="838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52680" y="4495680"/>
            <a:ext cx="4419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6890-AB1A-465A-895B-EF1858B94FB4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69EB1A-374F-4D52-92D7-B25F4A173DD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set some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setq x '((b) a c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setq y (copy-list x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&gt; ((b) a 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 =&gt; ((b) a 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setf (second x) 'k) =&gt;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&gt; ((b) k 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 =&gt; ((b) a 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setf (car (first y)) 'm) =&gt;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&gt; ((m) k 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 =&gt; ((m) a 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3723-CA5A-4AAA-BE71-95799EDF0C0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F5245A-D17D-479C-AF9C-E349FC74C4B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on cop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66680" y="28954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66680" y="1676520"/>
            <a:ext cx="777240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=&gt; ((m) k 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&gt; ((m) a 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828800" y="3200400"/>
            <a:ext cx="91116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43200" y="3200400"/>
            <a:ext cx="91116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4343400" y="3581280"/>
            <a:ext cx="53352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505320" y="3581280"/>
            <a:ext cx="982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95680" y="3200400"/>
            <a:ext cx="9115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10080" y="3200400"/>
            <a:ext cx="9115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95880" y="3505320"/>
            <a:ext cx="762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81680" y="3200400"/>
            <a:ext cx="911520" cy="4572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97880" y="3200400"/>
            <a:ext cx="911160" cy="4539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238880" y="3581280"/>
            <a:ext cx="0" cy="838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647600" y="449568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009920" y="4419720"/>
            <a:ext cx="366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772040" y="4191120"/>
            <a:ext cx="636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1447920" y="3428640"/>
            <a:ext cx="761760" cy="29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065960" y="358128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18600" y="449568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31800" y="5189400"/>
            <a:ext cx="677880" cy="525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828800" y="5411880"/>
            <a:ext cx="911160" cy="4554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743200" y="5411880"/>
            <a:ext cx="911160" cy="4554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2209680" y="4952520"/>
            <a:ext cx="0" cy="677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352680" y="5638680"/>
            <a:ext cx="982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97480" y="5411880"/>
            <a:ext cx="911160" cy="4554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11880" y="5411880"/>
            <a:ext cx="911160" cy="4554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4876920" y="502920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867280" y="5638680"/>
            <a:ext cx="982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783480" y="5411880"/>
            <a:ext cx="911160" cy="4554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697880" y="5411880"/>
            <a:ext cx="911160" cy="4554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7238880" y="4957920"/>
            <a:ext cx="0" cy="830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828800" y="4114800"/>
            <a:ext cx="911160" cy="758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4114800"/>
            <a:ext cx="911160" cy="758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362320" y="3505320"/>
            <a:ext cx="0" cy="525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286000" y="4419720"/>
            <a:ext cx="22860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84440" y="5342040"/>
            <a:ext cx="525240" cy="372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438280" y="4800600"/>
            <a:ext cx="533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077320" y="3505320"/>
            <a:ext cx="0" cy="753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8077320" y="4723920"/>
            <a:ext cx="0" cy="838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352680" y="4495680"/>
            <a:ext cx="4419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038480" y="380988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575C-8361-481D-A20B-FFC20CC66CC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B544CD-DB91-4AEA-B266-93D46209D6E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ting li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print-level*, *print-length* control printing depth and length (number or nil for no restric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CL, tpl:*print-level*, tpl:*print-length* control top-level prin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PRINT always prints the whole 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not set top-level variables to n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FA66-65DB-406F-A92A-EB2DB564BEC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E5F5F0-1867-4888-A929-D9B68F4186E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bject with two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(ca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t (cd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 CONS allocates 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ons ‘a 7) -&gt; (a . 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ons 'a NIL) -&gt; 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ons 'a (cons 'b (cons 'c NIL))) -&gt; (a b 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454D-60B8-4320-87EE-D84F67E7158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B9ACC8-AE8E-4734-9E7B-46D1B8633E26}" type="datetime1">
              <a:rPr lang="en-US"/>
              <a:t>07/28/26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st printing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setq lis ‘(a (b (c (d (e))))) 2 3 4 5 6 7 8 9 10 11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(a (b (c (d #)))) 2 3 4 5 6 7 8 9 10 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g-user(25): (print li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(a (b (c (d (e))))) 2 3 4 5 6 7 8 9 10 11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(a (b (c (d #)))) 2 3 4 5 6 7 8 9 10 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g-user(26): (pprint li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(a (b (c (d (e))))) 2 3 4 5 6 7 8 9 10 1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g-user(27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E911-A445-4B44-8804-BBD0DD31E973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B27843-0A39-4C33-BF01-8EDA249F39C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egro CL Certification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p Programming Series Level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1.3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4FBE-B8AD-4FAF-A003-8FF7A8F2FA1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669017-3232-4374-A5E5-1E6F6CE87A65}" type="datetime1">
              <a:rPr lang="en-US"/>
              <a:t>07/28/26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y types of numb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xnum, 1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num, 1231231231231231231231231231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ically change from one to other as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tios, 7/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oat, 2.333333333333, 8.4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x, #c(0 1), #c(7.3 4.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0D90-EDC5-4E90-AB23-39060840549D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FF91C6-13DD-4467-8344-8C6B57C4976F}" type="datetime1">
              <a:rPr lang="en-US"/>
              <a:t>07/28/26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914400" y="30492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914400" y="1773360"/>
          <a:ext cx="8229600" cy="41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773360"/>
                    <a:ext cx="8229600" cy="41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8945-78FD-41F7-AAA8-281B6875316C}" type="slidenum">
              <a:t>3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2603CC-CF0A-48A7-A4E5-75A4D49B38B3}" type="datetime1">
              <a:rPr lang="en-US"/>
              <a:t>07/28/26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xn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-positive-fixn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-negative-fixn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ficiently maps into underlying hardware’s integer 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3140-EE5D-447F-8809-B301A34B7EE7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F3F30F-A982-446E-9C81-89845DC8983B}" type="datetime1">
              <a:rPr lang="en-US"/>
              <a:t>07/28/26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typep (+ most-positive-fixnum 1) ‘bignum) --&gt;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typep 1 ‘fixnum) --&gt;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EF61-44BA-49BA-8A8E-B5ACDCE8205E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38C507-3DBC-4353-98B6-7F0F36A3B047}" type="datetime1">
              <a:rPr lang="en-US"/>
              <a:t>07/28/26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ithmetic operations  are gener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e on all appropriate numeric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erce to appropriate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ional canonica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oating point contag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x contag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x canonical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C5AC-D3AD-4320-A8EA-DE6A271E8A5E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1793CF-5CA0-4976-BF55-2BC39A605D33}" type="datetime1">
              <a:rPr lang="en-US"/>
              <a:t>07/28/2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oa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234e7 and 12340000.0 are read in the float format which is the value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read-default-float-format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, f, d, or l in place of e gets specific 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- or least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negative- or -positive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oat type (short-float, single-float, double-float, long-flo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3845-1BC2-4BE3-8E14-2C21E4FA88DE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FF3DE8-BAA4-4F3C-8083-A68E58F7A4A0}" type="datetime1">
              <a:rPr lang="en-US"/>
              <a:t>07/28/26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rsion”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oat - maps a real number to a floating point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ncate, round, floor, ceiling - map  to integ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56F1-0CD9-40AB-A05C-896388A82547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80A069-F694-4A3A-90E4-5119DA1D4044}" type="datetime1">
              <a:rPr lang="en-US"/>
              <a:t>07/28/26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o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295280" y="1066320"/>
            <a:ext cx="78487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float 1) --&gt; 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float 2/3) --&gt; 0.666666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float 2/3 1.0d0) --&gt; 0.6666666666666666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float 0.666667 1.0d0) --&gt;  0.6666666865348816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63AD-13B8-495F-A320-86504971D1B0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CA1213-89CB-4B01-B6C0-20F0FF3C757A}" type="datetime1">
              <a:rPr lang="en-US"/>
              <a:t>07/28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 of a l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mbol NIL, which represents the empty li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 whose cdr is a 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cons ‘a (cons ‘b nil)) -&gt; (a 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A0C1-9181-4FA6-84CC-EDD2EF62656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B52751-4934-4ABA-B43D-71EBC82B73D2}" type="datetime1">
              <a:rPr lang="en-US"/>
              <a:t>07/28/26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oor, round,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oor -- truncates toward negative infi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iling -- truncates toward positive infi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ncate -- truncates toward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nd -- nearest integer, if halfway to e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251B-7810-4D07-B003-4008184018DC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FD8308-3E20-44A0-974B-B0DB8A1F2A8F}" type="datetime1">
              <a:rPr lang="en-US"/>
              <a:t>07/28/26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floor 2.5) --&gt; 2  (floor -2.5) --&gt; -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ceiling 2.5) --&gt; 3  (ceiling -2.5) --&gt; 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truncate 2.5) --&gt; 2  (truncate -2.5) --&gt; 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ound 2.49) --&gt; 2  (round 2.51) --&gt;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ound 2.5) --&gt; 2  (round -2.5) --&gt; 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ound 1.5) --&gt; 2  (round -1.5) --&gt; 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16BA-11E9-48B6-B3DE-F60173A1E721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EABB4E-8430-44DD-B8DD-3B285177924F}" type="datetime1">
              <a:rPr lang="en-US"/>
              <a:t>07/28/26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oor and relate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 a second, optional, argument which is a number by which to divide the first argument; defaults to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 two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er p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ai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3467-144F-48B2-9326-C41736C8DE95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C30793-42DA-4EED-9844-67CE808A6951}" type="datetime1">
              <a:rPr lang="en-US"/>
              <a:t>07/28/26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 (floor 5 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 (floor 5.0 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 (floor 5 2.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 (floor 7/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/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81C5-003F-4E25-9657-C44FF45BE8D8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D60D75-0396-43EB-8F3B-281E2F4CA000}" type="datetime1">
              <a:rPr lang="en-US"/>
              <a:t>07/28/26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ti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loss of prec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902600" y="2743200"/>
            <a:ext cx="2605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 (numerator 7/3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denominator 7/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 (/ 5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 (/ 5 2.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F703-D04D-4111-9ED0-4D932C95CE85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6BFE0D-B807-4568-A899-5BB95110BA3E}" type="datetime1">
              <a:rPr lang="en-US"/>
              <a:t>07/28/26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x numb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complex 0 1) --&gt; #c(0 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complex 1 0) --&gt;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complex 3 2.5) --&gt; #c(3.0 2.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ealpart #c(0 1)) --&gt;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imagpart #c(0 1)) --&gt;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mponents of the complex number can be any type of real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71E1-580B-4E85-A5FA-A2E0752E509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D1BBA3-5330-4EBE-9C6C-EC2F02E83A4C}" type="datetime1">
              <a:rPr lang="en-US"/>
              <a:t>07/28/26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th F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71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xpt x n)  --&gt;  x^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log x 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log x)   ;log bas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xp x)  --&gt;  e^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qrt 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isqrt 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6B46-FC34-4398-808D-44D8B530CDCD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700A71-EF01-4B12-8793-E4F59B055E10}" type="datetime1">
              <a:rPr lang="en-US"/>
              <a:t>07/28/2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g F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in theta-in-radia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cos theta-in-radia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tan theta-in-radia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A7A5-95B5-40D4-88E0-61397032B6BA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24733D-CD24-430C-97B0-D16EC0597BB3}" type="datetime1">
              <a:rPr lang="en-US"/>
              <a:t>07/28/26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f and dec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883520" y="2860560"/>
            <a:ext cx="5409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 (setq a 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 (incf a) ; equivalent to (setf a (+ a 1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 (incf a 4) ; equivalent to (setf a (+ a 4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 (decf a) ; equivalent to (setf a (- a 1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2E3B-89F3-4FCB-9C5C-E45FC9A1A026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F939EA-964B-4045-BB93-03B28432201F}" type="datetime1">
              <a:rPr lang="en-US"/>
              <a:t>07/28/26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gression on macroexpan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f and decf are macros (as are push and po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croexpand transforms a macro call into underlying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g-user(29): (setq a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g-user(30): (macroexpand '(incf a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setq a (+ a 1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g-user(31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1FF7-5798-4724-A6BF-BCD7C1D9E224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302CC0-67AA-4C93-85B3-1F206F68720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Empty L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L evaluates to itsel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car nil) =&gt; n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cdr nil) =&gt; n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BC07-7968-4D81-8E7F-398734F6264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342F02-9F5B-4524-A086-62F17D5DCEE8}" type="datetime1">
              <a:rPr lang="en-US"/>
              <a:t>07/28/26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egro CL Certification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16765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p Programming Series Level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1.3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Stru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3B28-C769-4CD6-B069-2E1C80775DD5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326A7A-8584-4471-AA45-09E1537367D5}" type="datetime1">
              <a:rPr lang="en-US"/>
              <a:t>07/28/26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type-of &lt;object&gt;) --&gt; most specific 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typep &lt;object&gt; &lt;type&gt;) --&gt; T or n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CEFA-21C3-4EF6-91CE-29CBC15C8286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C43F22-303C-4885-A9B6-EA83F982F087}" type="datetime1">
              <a:rPr lang="en-US"/>
              <a:t>07/28/26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data structure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s (chains of CONS cell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-t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D43E-8FCD-4ECD-9DA7-8A391A1EF96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A43E60-77DD-4425-A494-1E1D854996E9}" type="datetime1">
              <a:rPr lang="en-US"/>
              <a:t>07/28/26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066680" y="12949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ation must al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least 8 dimension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array-rank-li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least 1024 elements per dimens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ay-dimension-li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either store general objects (of type T) or more specialized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s of charac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s of single-floats or of double-floa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AD6F-6441-4885-BE0C-9029392CA3BE}" type="slidenum">
              <a:t>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5EEAE4-B5B4-4EDA-BCF2-6A8D58BE6A9A}" type="datetime1">
              <a:rPr lang="en-US"/>
              <a:t>07/28/26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ray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295280" y="1981080"/>
            <a:ext cx="72392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setf arr (make-array '(2 3) :initial-element nil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2A((NIL NIL NIL) (NIL NIL NIL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aref arr 0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setf (aref arr 0 0) '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aref arr 0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2A((B NIL NIL) (NIL NIL NIL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3E16-AC1C-4297-A7EC-DAA30F6280CC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338172-CEE8-42ED-B9B9-DFFF1EE938C4}" type="datetime1">
              <a:rPr lang="en-US"/>
              <a:t>07/28/26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c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ctors are 1-dimensional 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119680" y="2438280"/>
            <a:ext cx="4743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(setf vec (make-array 4 :initial-element 0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(0 0 0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v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(0 0 0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(setf vec (vector "a" 'b 5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("a" B 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v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("a" B 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(aref vec 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(svref vec 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0BD7-8E1A-4325-91E2-9DE908923BFD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79378B-D41D-4201-BA3B-0EFDC6A8660E}" type="datetime1">
              <a:rPr lang="en-US"/>
              <a:t>07/28/26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14040" y="-766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14040" y="9140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s are vectors of charac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 with char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730880" y="2057400"/>
            <a:ext cx="35395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setf string1 "abc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abc"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aref string1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\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char string1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\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char string1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\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setf (char string1 2) #\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\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string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abZ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0AFA-A9AE-4AD7-9943-763FAE4CC60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3DD56F-560A-4CD2-A73A-16F2588369FA}" type="datetime1">
              <a:rPr lang="en-US"/>
              <a:t>07/28/2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ing Functions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-eq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-les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-greater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281320" y="4191120"/>
            <a:ext cx="53056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gt; (string= "foo" "Foo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gt; (string-equal "foo" "Foo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B475-E210-4B03-9914-E853EC7BE145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F654AA-9E5E-48E0-8CCA-173F806C8229}" type="datetime1">
              <a:rPr lang="en-US"/>
              <a:t>07/28/26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040" y="759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ing Functions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string-trim '(#\space) " five ten   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"five ten“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string-trim '(#\space #\$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" $5.73, $8.40   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"5.73, $8.40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string-upcase “five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V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string-capitalize “five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v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string ‘f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V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C930-C76A-4B64-A0BE-0E8C7AF68A28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630009-F9E0-4C28-972D-E6AD7EB040AD}" type="datetime1">
              <a:rPr lang="en-US"/>
              <a:t>07/28/26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ing Functions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364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; Alphabetizing string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string&lt; “apples” “bananas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; Also string&gt;, string&lt;=, string&gt;=, string/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string&lt; “this” “that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string&gt; “this” “that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string&lt; “abc” “abcd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C983-976C-4DEC-A227-4F8671904184}" type="slidenum">
              <a:t>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9DC019-7E52-48EE-9FBA-03EDBFD1B853}" type="datetime1">
              <a:rPr lang="en-US"/>
              <a:t>07/28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king a L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list 'boston 'distance (* speed time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BOSTON DISTANCE 18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; When the elements are all the sa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make-list 3 :initial-element 'denv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DENVER DENVER DENV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F8D4-0309-49F6-B443-8860EAAE014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ACEA20-7C63-4E67-BBB1-5C70A85DCBDF}" type="datetime1">
              <a:rPr lang="en-US"/>
              <a:t>07/28/2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quenc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sequenc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s (and therefore strin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of the list functions already mentioned are sequence func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CD5B-75D2-4ECD-BBB9-27F431EB61F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07690B-54B2-483A-B78F-960DB8CF5D23}" type="datetime1">
              <a:rPr lang="en-US"/>
              <a:t>07/28/26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st vs Vector 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 p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y to allocate a small piece of list structure and splice it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to allocate whole vector at on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 c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s time proportional to n to get nth m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’t go back to previous element from one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D2EB-7C98-45DB-9879-78ABFF37B19D}" type="slidenum">
              <a:t>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34BEF3-E12F-491D-AD89-98D391A857DB}" type="datetime1">
              <a:rPr lang="en-US"/>
              <a:t>07/28/26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41560" y="2379240"/>
            <a:ext cx="7697520" cy="11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quence function similar to aref, svref, ch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195720" y="3352680"/>
            <a:ext cx="2902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elt '(a b c)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elt "abc"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\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elt (vector 1 2 3)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elt nil 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EA62-F1E0-41B7-A784-853FBBFBCDEC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B0CAC7-0BFD-43AC-9615-C1868D303792}" type="datetime1">
              <a:rPr lang="en-US"/>
              <a:t>07/28/26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s the position of its first argument in the sequence which is its second arg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340360" y="3394080"/>
            <a:ext cx="613332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 (position #\r "microprocessor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 (position #\r "microprocessor" :from-end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 (position 'b '(a b c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7833-CED7-4C22-887E-31BA38E45632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511436-CA7F-4142-BED9-0B121C75EFFF}" type="datetime1">
              <a:rPr lang="en-US"/>
              <a:t>07/28/26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es for an item in a seque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s the item f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519920" y="3048120"/>
            <a:ext cx="381672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 (find #\a "cat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#\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 (find 1000 '( 1 2 4 8 1000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 (find 5 '(1 2 3 4 1000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3BF4-6447-452D-B844-7C2920218B3F}" type="slidenum">
              <a:t>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71F7E0-DC30-4050-AA7F-E7C34DE3A03D}" type="datetime1">
              <a:rPr lang="en-US"/>
              <a:t>07/28/26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d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522440" y="1050840"/>
            <a:ext cx="7164360" cy="52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 (find 17 '(13 61 34 33 45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 (find 17 '(13 61 34 33 45) :test '&lt;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 (defun is-double-of (num1 num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= (* 2 num1) num2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-double-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 (find 17 '(13 61 34 33 45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:test ’is-double-o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 (defun car-is-double-of (num-arg list-ar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= (* 2 num-arg) (car list-arg))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r-is-double-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 (find 17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’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(13 31) (61 16) (34 43) (33 33)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:test  ’car-is-double-o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34 4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42BC-D1D0-4563-9D1A-D7D89FAAA8C8}" type="slidenum">
              <a:t>6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CEFD06-51A1-4867-ABA2-E4B8C58D3D14}" type="datetime1">
              <a:rPr lang="en-US"/>
              <a:t>07/28/26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rch: find a subsequence mat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earch “abc” “123abc456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turns 3 (location of beginning of seq1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seq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s nil if no ma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equence must not have intervening element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earch ’(a b c) ’(a 1 b 2 c)) -&gt; n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A358-2CDF-4AC8-96F8-34AB752113B8}" type="slidenum">
              <a:t>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A3FDF8-D7B4-4A2F-9B17-F78F01010D1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tting part of a sequ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ubseq '(a b c d) 1 ) --&gt; (B C 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ubseq '(a b c d) 1 2) --&gt; (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ADB7-7934-4174-A826-0F5E8985030D}" type="slidenum">
              <a:t>6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6EC3D1-BCB2-4546-8BED-F7C9C4DDC487}" type="datetime1">
              <a:rPr lang="en-US"/>
              <a:t>07/28/26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inds of sequence oper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destru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ies top level of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tru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ifies how list elements are hooked tog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F6A0-7B71-484E-9A93-A06E2D3E3C3F}" type="slidenum">
              <a:t>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58356A-04A2-45BE-A3D1-D8E7991D1064}" type="datetime1">
              <a:rPr lang="en-US"/>
              <a:t>07/28/26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ort '(1 3 5 7 2 4 6) '&lt;) --&gt; (1 2 3 4 5 6 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ort '(1 3 5 7 2 4 6) '&gt;) --&gt; (7 6 5 4 3 2 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 is a destructive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want to capture the res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e. (setq a (sort a ‘&lt;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143C-9643-437D-AD56-A7CDAC16E418}" type="slidenum">
              <a:t>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FD3A75-603C-4548-ADB3-FDE350394EA3}" type="datetime1">
              <a:rPr lang="en-US"/>
              <a:t>07/28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s for li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s can be simple or have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ociation 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(a 1) (b 2) (c 3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(a . 1) (b . 2) (c . 3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(a 1 mary) (b 2 donna)…(w 7 henry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ociates a key with a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erty 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:a 1 :b 2 :c 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ther way of associating a key with a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D678-50C7-4C76-A2FC-17DF7E4655F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987682-CC57-46E7-99AE-90BDA37684A4}" type="datetime1">
              <a:rPr lang="en-US"/>
              <a:t>07/28/26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s items from a sequence non-destructively, i.e. copies the sequ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054880" y="3352680"/>
            <a:ext cx="320112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setq a '(1 2 3 4 3 2 1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 2 3 4 3 2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remove 2 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 3 4 3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 2 3 4 3 2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4892-6F9D-453A-B49B-962D58C776EC}" type="slidenum">
              <a:t>7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3D137E-0B56-4F52-BA3F-91337A5D173D}" type="datetime1">
              <a:rPr lang="en-US"/>
              <a:t>07/28/26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s items from a sequence destructively, i.e. splices the sequ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041560" y="2955960"/>
            <a:ext cx="358776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(setq a (list 1 2 3 4 3 2 1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 2 3 4 3 2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(setq a (delete 2 a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 3 4 3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 3 4 3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(delete 1 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 4 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 3 4 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CC79-5941-42BF-82D9-C0281208C368}" type="slidenum">
              <a:t>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FCC9C9-9623-49D3-A9EA-5392C975BE2F}" type="datetime1">
              <a:rPr lang="en-US"/>
              <a:t>07/28/26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ove-duplic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a sequence f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71720" y="2666880"/>
            <a:ext cx="54291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remove-duplicates "abracadabra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cdbr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remove-duplicates "abracadabr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from-end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abrcd 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remove-duplicates '(a a b 5 7 7 "hello"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 B 5 7 "hello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8212-CFD7-4AF2-A22A-8BF4E5FA3798}" type="slidenum">
              <a:t>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618C1A-B062-4FBF-8A42-E9AF589AD80E}" type="datetime1">
              <a:rPr lang="en-US"/>
              <a:t>07/28/26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e-duplic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 duplicates destructiv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036880" y="2860560"/>
            <a:ext cx="382572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setq a (list 1 2 3 4 4 5 5 6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 2 3 4 4 5 5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delete-duplicates 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 2 3 4 5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 2 3 4 5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3D81-3855-41A5-9BAF-DF47F4848360}" type="slidenum">
              <a:t>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BA5362-1FCA-4348-9DB1-B592E30AC907}" type="datetime1">
              <a:rPr lang="en-US"/>
              <a:t>07/28/26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er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s a sequence in which the order of the elements in the argument sequence is rever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115000" y="3584520"/>
            <a:ext cx="251532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setq a '(1 2 3 4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 2 3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reverse 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 3 2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 2 3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79A6-3D1A-4660-B020-774DB8029C46}" type="slidenum">
              <a:t>7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1ED0D7-6C41-4731-8BBA-ECC2F7EE38E6}" type="datetime1">
              <a:rPr lang="en-US"/>
              <a:t>07/28/26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rever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tructive version of reve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65480" y="2895480"/>
            <a:ext cx="291132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setq a (list 1 2 3 4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 2 3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nreverse 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 3 2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F43B-5E2D-465C-854F-4B733623C1CB}" type="slidenum">
              <a:t>7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43F810-E72D-409C-8773-CB8E57F0A0DD}" type="datetime1">
              <a:rPr lang="en-US"/>
              <a:t>07/28/26</a:t>
            </a:fld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egro CL Certification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p Programming Series Level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1.3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eams and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E99E-6ED7-4619-A704-44A1BE789BF6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847484-8C26-4285-A721-4A7C2D244F62}" type="datetime1">
              <a:rPr lang="en-US"/>
              <a:t>07/28/26</a:t>
            </a:fld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eam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tream is an object that is a source of input and/or a destination for out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 of streams inclu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ams to and/or from the terminal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ams to and/or from a character or binary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ams to and/or from an X window or Windows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ket stre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D4EA-CC69-40CA-B849-1D370F7C52A4}" type="slidenum">
              <a:t>7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47D34D-9F18-4371-862A-E1123D4DE287}" type="datetime1">
              <a:rPr lang="en-US"/>
              <a:t>07/28/26</a:t>
            </a:fld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-open-file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ith-open-file (I “foo.lisp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let ((line (read-line I nil nil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if (eq1 line nil) (return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rite-li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standard-output*)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D381-AB1F-44F0-888C-54C7402D9430}" type="slidenum">
              <a:t>7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14FCAE-F022-491E-B415-2245F6D74FD7}" type="datetime1">
              <a:rPr lang="en-US"/>
              <a:t>07/28/26</a:t>
            </a:fld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ardized Stream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99072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standard-input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ault stream for read-line, read-char, read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standard-output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ault stream for write-line, write-string,print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terminal-io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is ordinarily connected to the user’s cons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ful place to print log messages and warn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trace-output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ault steam for trace ut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query-io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ault stream for stream-y-or-n-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6E6E-AB77-4123-A844-D7B1D9B6010F}" type="slidenum">
              <a:t>7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7B8242-9C9E-4962-A205-CA564BD08D7D}" type="datetime1">
              <a:rPr lang="en-US"/>
              <a:t>07/28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 of Li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s are an extremely useful data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ze is unbounded (except by memory constrain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other languages you must write your own list primi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lists are so fundamental to Lisp there are many built functions to manipulate l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4D5E-14F1-42CE-994A-80D5BC2C72E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9BCA56-C303-4E68-9923-CAAFEBDDE7A5}" type="datetime1">
              <a:rPr lang="en-US"/>
              <a:t>07/28/26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e file streams using OP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guments are filename and keyword arg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direction -- :input, :output, :IO, or :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element-type -- :character or ‘(unsigned-byte 8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if-does-not-exist -- :error , :create, or 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if-exists -- :supersede, :overwrite, :error,  :append or 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s stream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B1EB-5AC2-42F0-9745-8AEDE2876F78}" type="slidenum">
              <a:t>8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EA43B1-6F4A-470C-BBB9-F59645123A00}" type="datetime1">
              <a:rPr lang="en-US"/>
              <a:t>07/28/26</a:t>
            </a:fld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e streams must be clos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lose strea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 may appear to be empty until you close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-open-file is the preferred way to open and close a str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521720" y="2971800"/>
            <a:ext cx="572616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let ((stream (open “c:\\junk.tx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direction :output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print ‘hello-world stre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lose stream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; Or equivalent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with-open-file (stream “c:\\junk.tx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direction :outp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print ‘hello-world stream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55F8-5845-4A0F-85B6-8A6FAA292594}" type="slidenum">
              <a:t>8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20710B-5623-487E-8D07-271A7041FBF0}" type="datetime1">
              <a:rPr lang="en-US"/>
              <a:t>07/28/26</a:t>
            </a:fld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ding 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often have to parse data that is not already in Lisp format. A standard way to parse text data is to read it as strings with read-li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ad-line arguments: &amp;optional stream eof-error-p eof-value recursive-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read-line stream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&gt; “Four score and seven 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; Signals an error when EOF is reac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read-line stream nil ni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; Returns NIL when EOF is reac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77B6-BBDB-44CF-9CDA-4932F7AB959B}" type="slidenum">
              <a:t>8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A13BBC-D598-4CBC-906B-642FC2905543}" type="datetime1">
              <a:rPr lang="en-US"/>
              <a:t>07/28/26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d-line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dat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===&gt;Mail arrives Jun 23 13:51:40 xxx.some.com sendmail[14867]: [ID 822293 mail.info] i5NIpeJu014867: from=&lt;user2@some.com&gt;, size=6554, msgid=&lt;B34440A345677F5F480CA4C4E3C54B@officer.corp.some.com&gt;, proto=SMTP,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D7F9-1705-4D6F-9B03-B7994DCEDA46}" type="slidenum">
              <a:t>8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880626-7A03-4FF9-870F-AA338ADD616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d the tex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et ((text "") line from id f1 f2 i1 i2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(block readi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(loop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(setq l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(read-line stream nil nil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(if line (setq tex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(concatenate ‘stri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text line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(return-from reading)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;; now TEXT is a string containi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;; all message 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82A6-912D-4997-A8D8-6EFF04AA258E}" type="slidenum">
              <a:t>8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CF7FD2-3DFA-4228-BF12-8AF20E9F708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se the tex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setq f1 (+ 6 (search "from=&lt;" text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setq f2 (position #\&gt; text :start f1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setq from (subseq text f1 f2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setq i1 (+ 7 (search "msgid=&lt;" text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setq i2 (position #\&gt; text :start i1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setq id (subseq text i1 i2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values from 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 ;; closes off let form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er2@some.com B34440A345677F5F480CA4C4E3C54B@officer.corp.som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0F08-4F42-4040-9602-A80A54C009B5}" type="slidenum">
              <a:t>8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17210B-983D-4714-8078-DC15AC22CC2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iting 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rite-lin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rguments: string &amp;optional st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key start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rite-line "We hold these truths 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e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; Writes text and newline mar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rite-line "We hold these truths 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eam :start 0 :end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; Writes 'We ' and newline mar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A996-9793-4CAE-9617-DA1918BABD6A}" type="slidenum">
              <a:t>8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B0E8BC-A4DD-4924-94C8-DA49BDCBDB5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ding and Writing Charac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write-string “Hello world” strea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; Writes string but no new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read-char strea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&gt; #\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; Reads a single chara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write-char #\H strea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; Writes a single chara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terpri strea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; Writes a newl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6F2D-800D-4493-91AE-27A7715A3241}" type="slidenum">
              <a:t>8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6BCAC5-85DA-4FA5-B86F-86D014D009A8}" type="datetime1">
              <a:rPr lang="en-US"/>
              <a:t>07/28/26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Input and Outp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write object strea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; Outputs the print representation of OBJEC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:: Returns its object argu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read strea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; Reads an object from an ascii 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; Most objects are print-read compatib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; Lists, numbers, strings, symbols, vector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; arrays, lisp source co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C38D-A51F-4E22-B3C3-850A088C917E}" type="slidenum">
              <a:t>8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3C26AE-E4C7-4E7B-9BAA-F469F240130B}" type="datetime1">
              <a:rPr lang="en-US"/>
              <a:t>07/28/26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Ways to Wr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06668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the function WRITE is rather uncomm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print readably with prepended #\new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print “Five” stream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ve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v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print readably, without prepended #\new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prin1 “Five” strea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v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v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print it pret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princ “Five” strea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v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8206-D815-4CD3-AED2-60454C6C14FD}" type="slidenum">
              <a:t>8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8EBA94-E86D-4826-B148-4D2B4D3A9FC4}" type="datetime1">
              <a:rPr lang="en-US"/>
              <a:t>07/28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List Oper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rst '(a b c))  --&gt;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rst nil) --&gt; 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st '(a b c)) --&gt; (B 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st nil) --&gt; 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cond '(a b c)) --&gt;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(first (rest '(a b c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ird '(a b c)) --&gt;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cond nil) --&gt; 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ird nil) --&gt; 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0CC1-4139-47BA-9711-842892AA611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467C15-D9A2-4274-9CF0-E6C5225A6191}" type="datetime1">
              <a:rPr lang="en-US"/>
              <a:t>07/28/26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nary Stre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with-open-file  (stream “c:\\junk.bi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:direction :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:element-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unsigned-byte 8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write-byte 255 stream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with-open-file  (stream “c:\\junk.bi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:element-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unsigned-byte 8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read-byte stream)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6CEF-890D-48DB-AEE4-46FF1428F27D}" type="slidenum">
              <a:t>9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99F4C8-DCDA-4B20-BD8F-671171B3A083}" type="datetime1">
              <a:rPr lang="en-US"/>
              <a:t>07/28/26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thna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athname is an o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namestring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tream creating and file functions use pathnames as arg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6BD9-E3A8-42AC-8BCF-C3B35872BB7D}" type="slidenum">
              <a:t>9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C172C9-3B35-4C9D-B4FF-A6E49BA27143}" type="datetime1">
              <a:rPr lang="en-US"/>
              <a:t>07/28/26</a:t>
            </a:fld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pathna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06668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(setq p (path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c:\\windows\\system\\user32.dll"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#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:\\windows\\system\\user32.d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(pathname-name 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user32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(pathname-type 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dll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(pathname-version 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unspecif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F4FE-058A-4364-B55A-8BE77236EAA4}" type="slidenum">
              <a:t>9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97DBF6-55F9-4BDA-BE80-C66AD0D10911}" type="datetime1">
              <a:rPr lang="en-US"/>
              <a:t>07/28/26</a:t>
            </a:fld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pathname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(pathname-directory 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:absolute " windows " " system 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(pathname-host 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(pathname-device 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 c 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32DB-6DCE-42EF-A0BC-B54B33EA9432}" type="slidenum">
              <a:t>9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6646D1-FD3A-4EE9-A62D-B10A3E3FC82E}" type="datetime1">
              <a:rPr lang="en-US"/>
              <a:t>07/28/26</a:t>
            </a:fld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Word on Backsla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ackslash character(\) is used to “escape” the next character in a string or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 friend was \”curious\”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:\\windows\\system\\user32.dll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\a =&gt; |TESTa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13CF-6808-4CF7-B5CF-9D78E37A8EF8}" type="slidenum">
              <a:t>9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2A4028-9CDD-4B1A-9F87-2D76D2BC904D}" type="datetime1">
              <a:rPr lang="en-US"/>
              <a:t>07/28/26</a:t>
            </a:fld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ke-pathna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ake-path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:device “C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:name “user32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:type “dl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: directory ‘(:absolute “window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”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p”c:\\windows\\system\user32.dl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9764-164D-4F51-8470-EA5E549A1596}" type="slidenum">
              <a:t>9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6FA754-3872-4E6E-B904-98020DC84CF4}" type="datetime1">
              <a:rPr lang="en-US"/>
              <a:t>07/28/26</a:t>
            </a:fld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e-pathna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ssing fields in first argument are provided by second argu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erge-path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ake-pathname :name “odbc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p”c:\\windows\\system\\user32.dll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p”c:\\widows\\system\\odbc.dl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argument defaults to the value of *default-pathname-defaults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1C9A-9E64-487B-A732-4FFAD831CB11}" type="slidenum">
              <a:t>9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3F328D-645C-4FB1-B84A-B894AC91B8DF}" type="datetime1">
              <a:rPr lang="en-US"/>
              <a:t>07/28/2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e Oper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ame-file -- original n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-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e-file -- returns true if file is ther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ctual return value is truename of file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-write-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ory -- list of pathnames in direc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ad -- loads a lisp source of fasl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7DEA-02B1-44CC-B481-C4CDB0E2919E}" type="slidenum">
              <a:t>9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2FEA06-600D-40C6-A1F9-9F8E8AAF4982}" type="datetime1">
              <a:rPr lang="en-US"/>
              <a:t>07/28/26</a:t>
            </a:fld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ory Op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directo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:/windows/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s a list of directory cont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8722-8CFD-4FFF-A92B-8143BE60048B}" type="slidenum">
              <a:t>9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79D2F8-7F06-41DB-99EA-5802E5D789F9}" type="datetime1">
              <a:rPr lang="en-US"/>
              <a:t>07/28/26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was the last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cture notes and homework available, online a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franz.com/lab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-on-one help via email at training@franz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652E-0225-4736-8D32-D05D4326EBAC}" type="slidenum">
              <a:t>9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4A2074-96B2-487B-8FF2-83DFC9D78A3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2T23:01:26Z</dcterms:created>
  <dc:creator>Liliana Avila</dc:creator>
  <dc:description/>
  <dc:language>en-US</dc:language>
  <cp:lastModifiedBy>ssears</cp:lastModifiedBy>
  <cp:lastPrinted>2004-01-22T23:25:44Z</cp:lastPrinted>
  <dcterms:modified xsi:type="dcterms:W3CDTF">2010-09-15T12:24:44Z</dcterms:modified>
  <cp:revision>104</cp:revision>
  <dc:subject/>
  <dc:title>Allegro CL Certification Progra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franz.com/lab/</vt:lpwstr>
  </property>
  <property fmtid="{D5CDD505-2E9C-101B-9397-08002B2CF9AE}" pid="9" name="LinkColor">
    <vt:r8>16711782</vt:r8>
  </property>
  <property fmtid="{D5CDD505-2E9C-101B-9397-08002B2CF9AE}" pid="10" name="MailAddress">
    <vt:lpwstr>training@franz.com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\\cobweb\colin\www\franz\users\colin\htdocs\lab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