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DC7A-47B3-4017-9390-62E4D93A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AF51-159D-4E66-9E4E-35589DB9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23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517F-45EA-416D-B0E3-5F30291B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80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3440" y="15998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80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3440" y="40676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DBFF-12C2-417A-8364-0C3C2711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2219-758E-4985-81DE-60A1B596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3486-AE11-4DBF-ABEF-539088B0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DCCC-93BC-4274-9217-0FCF527D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CCDA-27F7-4088-BD22-CC3FEDB7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3045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E15E-1A12-45F9-B009-12C11178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F9C7E-644F-4F36-8522-611A7F3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2320" y="40676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0331-A581-4457-B70D-CD2BB74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2320" y="15998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40676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3CFF-8EB7-40ED-8069-FEFB045C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8191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2DC1-6C91-49B1-B630-CA6E02569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3"/>
          </p:nvPr>
        </p:nvSpPr>
        <p:spPr>
          <a:xfrm>
            <a:off x="1219320" y="6477120"/>
            <a:ext cx="1676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5502-A68B-4594-AC4E-FAF91124CA5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4965840"/>
            <a:ext cx="2286000" cy="151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1581120" cy="198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880" y="4952880"/>
            <a:ext cx="183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go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6019920"/>
            <a:ext cx="1066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0D2E-F9FB-45FC-AA8E-E89F0F3838B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A7304B-1B64-4A24-8088-983D85BA0A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Format Control Arg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A  prints any lisp object  (strings without quo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S prints any lisp object  (strings with quo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D prints a decimal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F prints a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% prints a new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~&lt;return&gt; ignores the &lt;return&gt; and any following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mat *standard-output* “~A ~5F ~A ~%” 5 pi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 3.142 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B18F-C362-4B1B-A740-CE0223BC3C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95A3D6-50E8-41B6-A96F-8B943A4A5F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8B8E-8032-450D-BABD-E3FE595ABA7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0600AB-53A7-46C4-8F8E-79A178F66E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F644-9DDD-4200-A359-3F227EDE4F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7A846E-1F99-4D3A-A20F-1E6567BBEC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test-form then-form else-fo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eql saved-symbol passwor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“pass”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“fail”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test returns non-NIL, executes the THEN part and returns it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executes the ELSE part and returns it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part is op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60B4-D0A8-4321-8BB5-7ACF6A201B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9564EB-E5AA-4FFB-A948-2A15F89EAD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 sign-name  (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 (&gt;   number 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-positive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test returns NIL (false) or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f &lt;test&gt; &lt;then&gt; &lt;els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D0CD-9972-4A8C-B52C-1CB64275D8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4A06B4-7ED7-402D-9231-054598FE0E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if, cont’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un  sign-name  (numb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 (&gt;  number  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 (=  number  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zero"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negative"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ign-name 10) -&gt; “posi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ign-name -1) -&gt; “negativ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AD980-15FA-41A4-A35F-1B1858B1493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1780D8-631C-4E3B-8AB9-AA568B8A07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und statemement, equivalent to curly braces {} in Java, C, C++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26400" y="3413160"/>
            <a:ext cx="3700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(if (&gt; 3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n (print 'a) (print 'b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n (print 'c) (print '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  &lt;&lt;&lt;&lt;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  &lt;&lt;&lt;&lt; pri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  &lt;&lt;&lt;&lt; Return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6F3C-FB29-46EF-8191-F366FF606F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C33573-64DF-43F8-9575-EA7F5A47FF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1 and Pro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22040" y="2030400"/>
            <a:ext cx="37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(if (&gt; 3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n (print 'a) (print 'b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n (print 'c) (print '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(if (&gt; 3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1 (print 'a) (print 'b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og1 (print 'c) (print '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A7A7-3C8E-4A68-8CDD-337FB8C931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F2E4D4-E3FF-4B85-A2A0-21257E9A39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when test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hen (eql saved-symbol passwor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pen-the-vau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cord-vault-cont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lose the vaul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(if test 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pt no ELSE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body forms permit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6252-4E55-41B2-9B4C-832079CCFC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E4ED64-43FA-4F99-9ED4-6452AA6B48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less test c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unless (equal string passwor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ll-the-polic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(when (not …) …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5AD5-5A9C-4CD9-9B81-F30E3E6401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83EA9E-0379-4D5A-8EB6-95F5D48CA7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p session contains a large number of objects which is typically increased by    user-created lisp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A012C-8E64-4961-BE29-485587A510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F94309-9145-42FD-A924-18A8CD2DFB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und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: (not  (&gt;  x  3)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: (and  (&gt;  x  3)  (&lt;  x  1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: (or (&gt;  x  3) (&lt;  x  0) (=  y  7) (&lt;  (+  x  y)  5 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D950-DE36-4499-A46A-5DB0ED1089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11D9A7-36C6-4E2B-8750-B2CD9DB590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ypes of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eric comparisons: &gt;, &gt;=, &lt;, &lt;=,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ity of objects: EQ, EQL,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ity of strings: string=, string-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tring-equal  "Radar"  "RADA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t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ypep  x  'integ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A118-4B08-466C-9183-4D079005A90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A66F5B-F0D6-46C4-9BC8-A6916DE5AA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COND as if/elseif/elseif/elseif/end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lause has a test followed by what to do if that test is tr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d ((= x 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'singl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= x 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'tw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“You WIN”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= x 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'triple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'unknow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“Too Bad”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ACEA-5707-48DB-8888-65125276482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6206EE-DD4D-43E7-B230-75415246D5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s are evaluated in sequence until the evaluation of one of them returns true (ie not n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st test may be the symbol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d ((= x 1) (print 'singl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= x 2) (print 'tw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rint “You WIN”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= x 3) (print 'triple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t (print 'unknown) (print “Too Bad”) 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38FA-82FA-4EDE-9A9C-3FEB03C92A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081867-B341-4054-8CF9-EA9A3F4F97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-form is evaluated to produce a test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is established if the result of the evaluation is eql to a key of the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element of final clause may be t or otherwise, either of which assures a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s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1 5)(print ’odd)(print “less than 7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 (print 'two)(print 'twi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3 6 9)(print “multiple of 3”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therwise (print ’ok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22D99-EB5D-4E36-9DA4-4F1183A7EE3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B5E4F6-C4F1-4682-BD29-3E3B376B68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ing out of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case is true, CASE simply returns NIL without doing any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s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 (print 'singl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2 (print 'twi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 (print 'triple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EDFF-2E7A-4F9F-9C72-A68E4E40026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5114FF-4DBF-469F-9517-093666C667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un accept-bid-1 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mat t "How many dollars are you offering ?"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et* ((offer (read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unter-offer (+ offer 5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ield-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+ (length (format nil “~d”counter-offer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mat t "Would you consider raising that to ~v,'$d ?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eld-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-off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ase (rea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y yes t ok) counter-off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otherwise offer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8130-D8D9-4A75-B902-7BA2FF56940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A9A908-7DD4-4AFB-B1BB-AD13C502BB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efun accept-bid-2 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mat t "How many dollars are you offering? "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et* ((offer (read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unter-offer (+ offer 5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ield-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+ (length (format nil "~d" counter-offer))))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y-or-n-p "Would you consider raising that to ~v,'$d ?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eld-wid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-off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-of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ffer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C0D9-8D70-431C-9275-1D1660D9EC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A47B8B-BA78-43B5-8180-F70DDB24E7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case is true, ECASE signals an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cas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1 (print 'singl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2 4)(print 'twin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3 (print 'triple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Error, 7 fell through an ECASE form.  The valid cases were 1, 2, 4, and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FF65-909C-4CC9-B41E-FC86FF59E5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280062-3F2C-48E2-9A02-379786A9FF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ecase some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eger (print ‘intege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ingle-float (print ‘single-floa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-float (print ‘double-floa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otherwise (print ‘dunno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971A-1DD3-41D5-9789-3353C1DA935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191281-0F1A-4BDB-A58F-4D542827D6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works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ad-eval-print loop which is provided as part of the lisp s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ditor (preferably a lisp-knowledgable edi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s c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in the read-eval-print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ditor from which code can be saved and can be modif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4F3B-3190-4163-BA9E-1AC1F4CB9F3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2BF864-E94F-4E17-846A-49C8E727FB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ype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t to TYPECASE with the otherwise clause signalling an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typecas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eger (print ‘integer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ingle-float (print ‘single-floa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-float (print ‘double-floa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EE16F-7DEE-42D8-8079-1167BE5BA17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C741F1-2734-4388-859C-0A61330CBC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on and 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3FC5-056D-4FD0-8826-CA76389C26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ABC7CA-32D4-4EC5-BA32-BAAAD1F1A5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terate over elements of a li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var *lunch* '(apples oranges pear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element *lunch*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elemen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element *lunch* ‘don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 elemen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3F53-675B-4AA2-A490-7C36CA86641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B17C87-DFB6-4FA3-B248-C2CBE038A0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terate over a some number of consecutive inte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times (I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I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etq lunch (list  'apples 'oranges 'pear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times (I (length lunch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(nth i lunch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74D8-FDFD-4CD1-8A0A-14A39D5E384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BF9113-B533-4FE7-9F02-13B533D930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imes with return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1676520"/>
            <a:ext cx="5943600" cy="44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(dotimes (I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 “&lt;~D&gt;” i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0&gt;&lt;1&gt;&lt;2&gt;&lt;3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(dotimes (i 4 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ormat t "&lt;~D&gt;" i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0&gt;&lt;1&gt;&lt;2&gt;&lt;3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CC8B-28C3-4D66-9D97-FA068E7AE82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DD3178-17D1-4D85-A046-7ADC8C640F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ery general iteration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iterate by two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do ((I 0 (+ I 2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J 7 (+ J .5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(&gt; (+ I J) 50) ‘d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rint 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terpri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3C4B-AE7B-47F4-B86F-54E8CF2FD8B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232B11-8796-4C28-8E32-A95B69C100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do ((variable1 init1 step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variable2 init2 step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…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endtest res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dotimes and dolist could be implemented using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5BAF-4A5C-4407-8843-2BD0C5D6861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E95965-0A6B-4BEF-B91B-EBCDC6D17B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 Without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let ((I 0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when (&gt; I 10) (return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etq I (+ I 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print I)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 iterates forever (unless you call RETUR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3FA3-7ECA-44AC-8F87-2C5EB70D6FA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66007B-5E23-4C97-B2E2-C9C54B261E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 with Key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14): (loop for i from 1 to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 (* i i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 4 9 16 25 36 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15): (loop for j from 0 t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9D8A9-5A2A-4D09-8BE2-2B7858C2655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964D54-6754-4191-B081-DC2FE9BB92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with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man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lots of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mis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can collect, sum, maximize and minimize all in one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n’t cover the full range of loop keywords in thi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B88C-EBEF-42F4-81EE-FAEB27099A6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0E4FDF-F751-40E2-8CDE-065685705C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s the code into the lisp world by entering it directly to the read-eval-print loop or by loading it from the editor or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loaded into lisp may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ed - loaded as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d before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AF75-EC90-4118-89BD-904609FCD49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A25EFD-5F2C-4C99-A2EF-FA90DAAC3A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ping using from/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mycount (start-num end-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num from start-num to end-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num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count 1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12FB-F865-4322-AD5C-E185DDE59B1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E7BA49-D99B-4746-A90A-20B9342C43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without l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write code using do, dotimes, and dolist to accomplish the programming tasks addressed by loop keywor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you can write code to collect, sum, maximize and minim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5C42-19F2-4592-A7E7-8EF82E4371C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D98EB-AA3C-433E-9501-4821A4DD89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ing a List of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accumulate and return a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sum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et ((result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item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result (+ result item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um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6605-C70D-4245-B360-C403369F925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E25CEC-A07C-483B-B275-4692A1E452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the Maxi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arch for a maximum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maximum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et ((result (first 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item (rest 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hen (&gt; item res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setq result item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aximum '(1 2 3 4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23BD-FA7E-4DD0-BBB9-6C6BE834C2F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996681-93D0-4A58-A6B4-04A248126A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ion using  conditio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“do” the body only under certai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print-even-numbers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item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evenp item) (print item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rint-even-numbers '(10 1 2 4 7 8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77E2-B87F-4D6A-8935-7284E4AC116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5E7B71-435E-43FD-91E3-81CD20F21C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recursion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pecial kind of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dure in which a function calls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ursiv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es if some condition is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s itself with different arguments if condition is not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B774-C43F-4773-A2C9-076DB407158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B5C58C-B822-4203-B887-43EC3E1179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find-even (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et ((item (first lis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(and (numberp item)(evenp item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(rest list)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'(5 7 8 9 1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race find-ev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'(5 7 8 9 1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e problem: what if no eve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08197-F287-437F-973C-36BFBF11041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CA9FB8-6B62-4D97-AB79-D06C18D1DD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con’d,  trace out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990720"/>
            <a:ext cx="80010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G-USER(14): (find-even  '(5 7 8 9 1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0[1]: (FIND-EVEN (5 7 8 9 1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[1]: (FIND-EVEN (7 8 9 1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[1]: (FIND-EVEN (8 9 1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[1]: returned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[1]: returned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0[1]: returned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911E-65B6-4B56-8ECF-B87AC42F3BA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C9880F-0665-4C1D-AE2F-3285DEF0D4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cont’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find-even (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et ((item (first lis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(and (numberp item)(evenp item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(rest list))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'(5 7 8 9 1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'(5 7 9 1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ind-even n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53B2-9774-4247-8DA9-EE6B364B111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4718B5-842F-4F1B-B25F-1C98CEAF91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find-even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let ((item (first 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First, see if you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nd (numberp item)(evenp ite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If not, call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function with a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argument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ind-even (rest list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47B7-0CFB-4B56-839C-2FBE4C79A8AD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11699C-AD57-4554-8A2B-597096892E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written in Common Lisp can be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Lisp compiler can be applied to files or individu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ing a file of Common Lisp source code, say myfile.cl, creates a file myfile.fa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ad "myfile.c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ile-file "myfile.c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ad "myfile.fas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ad "my-app2/my-other-file.c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ad "c:\\program files\\acl62\\still-another-file.cl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6A99-054A-457C-A287-CFED6F7F24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5A3B8-D707-4BC1-A132-7592E9D635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factorial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First, see if you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&lt; N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If not, call the sam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with a different argument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 N (factorial (- N 1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actorial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trace fac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actorial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192A-6B6E-42A4-9514-6D928A6FDA5F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02488F-DF68-4570-B63E-CB77BCC866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orial con’d,  trace out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990720"/>
            <a:ext cx="8001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G-USER(17): (factorial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[1]: (FACTORIAL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[1]: (FACTORIAL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2[1]: (FACTORIAL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3[1]: (FACTORIAL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3[1]: returne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2[1]: returne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[1]: returne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0[1]: returned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876B-F1E4-496D-AF48-E7C672BFB84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98A2DD-A4EB-4DC8-A2B1-A6EA7AEC2B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are recursive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lgorithms on lists are recur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my-copylist (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f (or (not list) (not (listp 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cons (my-copylist (first 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y-copylist (rest list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my-copylist '(5 6 7 8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5D71-27EC-44EC-AEB8-1E45DAFFD55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495A56-18E6-4D80-AED4-07078E8041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 cont’d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66560" y="1244520"/>
            <a:ext cx="7861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 (some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(null (rest some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 some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(first some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 (rest somelist)))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2 (somelis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first-el (first some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rest-of-em (rest some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(null rest-of-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rst-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first-el (sum-em2 rest-of-em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126B-9041-4C30-8FA8-1720B6CF4C23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C6DEFD-303D-4B8C-B6FC-54950C814C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 cont’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4320" y="1805040"/>
            <a:ext cx="713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3 (somelist accumulato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rest-of-em (rest somelist)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ull rest-of-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accumulator (first somelis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3 rest-of-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accumul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rst somelist)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314E6-02C2-4F75-80E3-6DC2D8CE6AC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D27625-748B-4AC7-A06E-BF9903DDDD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 cont’d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3960" y="1805040"/>
            <a:ext cx="6764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4 (some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sum 0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list (el somelis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tf sum (+ sum el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5 (some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sum (first some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list (el (rest somelist) s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etf sum (+ sum el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4DAF-D031-4AC3-AC1F-D4FE0017E4C7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4791A2-544A-486E-BA6E-FBB98EA614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Recursion cont’d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0760" y="1295280"/>
            <a:ext cx="749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efun sum-em6 (some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let ((first-el (first somelist)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(null first-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f (numberp first-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first-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6 (rest somelist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+ (sum-em6 first-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6 (rest somelist)))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sum-em6 ‘((1 2 3) 7 (4 5 6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6B70-11D4-4F80-923E-E8A06ADE990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F72F39-070A-4484-85BF-A90BDD5EFB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local Ex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FC65-9473-4A78-8001-D624514ED90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7A9C87-55B4-4D20-A052-74AE783A24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local ex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on-local exit is a return to the caller from the middle of some construct, rather than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, return-from,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, th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2C65-1D97-4C13-AD3F-A8CD0E31F10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8C5EAB-FFA1-42FD-8BCA-CA0080671B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-from is a lot like GO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-from requires a block  tag argumen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try1 (ite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et ((result nil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lock 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list (object *objects*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hen (matchp item obj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etq result obj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turn-from search nil)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result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gives you a named place to go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E6DA-FB6B-4EB6-94F3-B007BBDCB5FD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653941-2F75-45B3-9BDD-9D99CE4F6F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26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ing a file does NOT make it part of any lisp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finition created by typing directly to the read/eval/print loop does not create compiled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fun my-func (ar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* 73 arg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preted definition can be replaced in the same lisp session by calling compile on the name of th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ompile 'my-fun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compilation while using Allegro CL both compiles the designated code and loads the newly compiled definitions into the current lisp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DC16-EAD4-47B9-A256-2CC6214883E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1F752C-0AAF-4B34-AFA6-37BD48AD09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-from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try2 (ite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et ((result nil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list (object *objects*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hen (matchp item obj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call to setq below is usel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setq result obje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return-from try2 nil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if called, the line below will print n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t result)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F737-9282-4B27-ABB7-571015C2A21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937222-FC85-48D2-B393-6C9504C012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and return-f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establishes a named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is a symbol (might be the symbol NI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rmal return is value of the last form of the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-from allows early return, second arg is value to 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48C7-9D05-472B-AFB8-F39C3DC4116C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773328-12BE-4517-9A42-6E424B82B8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from a block named 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and other do&lt;something&gt; iterators create a block named nil around the cod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un try (i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olist (object *objects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hen (matchp item 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; Return from the dol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bject)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5371-8A0B-4F19-915C-EC23753096F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9E32A9-0846-4DC1-8929-3CA2C50C00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fun try3 (ite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o* ((how-many (length *objects*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dex 0 (1+ index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object (nth index *objects*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th index *objects*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atch-found nil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or (setf match-found (matchp item objec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&gt;= index how-many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ch-found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BC89-6989-4ACA-A2EC-78AF6E373F4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DFFD1A-00EC-46A8-AD6A-0617A5E4E6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and th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alpha (arg1 arg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(&lt;= arg1 arg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row 'spaghetti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beta (recorded-average score handica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tch 'spaghe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alpha (+ score handicap) recorded-averag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terrific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eta 100 90 20) -&gt; TERR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eta 100 70 20) -&gt; 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0EAC-7571-4630-A234-85A9B8BA1816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41FD84-780C-4B59-A99A-ADFE9CAFBD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and throw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catch-test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atch '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1 "before thrower call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erp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hrower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1 "after thrower call"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erp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rin1 "after catch frame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efun thrower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f (&gt; n 5) (throw 'location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90A58-8E26-4A7D-B78F-6E843CFC7E09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70EC26-EA69-46C1-A571-7525B27FAE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and throw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THROWER throws to location, forms after the call to thrower in the catch frame are not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-user(42): (catch-test 10) ;; THROWER will 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before thrower cal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after catch fram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-user(43): (catch-test 0) ;; THROWER won't th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before thrower cal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after thrower call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after catch fram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g-user(44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E37D8-E4E7-425D-BB4E-51EA6CB1DF8B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5687B1-C744-45B3-80B5-6A516E28E7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and throw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customarily a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be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s a catch block named with that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rgument of throw is the catch tag, second is the value t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 doesn’t need to be done in lexical scope of c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DFD9-24D4-4D08-A2E7-8BF20C8FB9B3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A3F46-31D2-4C10-9EC3-50BDC26DAD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p pack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namespace for related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es a mapping from names to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lways a current package which is the value of  the Common Lisp symbol *packag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in the current package can be referenced by its 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accessible in the current package can be referenced by it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2843-903E-44F1-BEA8-8C5C7CF36CD2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C80C29-524F-4F30-8436-CC42B0699A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accessible in the current package can be referenced by it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which is not accessible in the current package can be referenced by prefixing a package qualifier to its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on Lisp symbol *package*, which, like other symbols specified by the Common Lisp standard,  is in the Common Lisp package and can always be referenced with common-lisp:*package* and cl:*packag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57B37-FAFB-4F47-86E0-EED9AE4095E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8E0B42-917D-4FC3-B7CD-A2D4346989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sp application written in Allegro CL can be delivered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code to anyone else who has a copy of a compatible Common Lis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compiled files to anyone else who has the same version of Allegro CL for the same kind of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ndalone application for use on the same kind and similar version of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140F4-A205-485E-9BC8-CDBA9186A8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A20D4D-6D9E-4F07-AF3D-503918FF6F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have a kind of  inheritance by which within any package the symbols of some other packages designated to be available externally can be referenced without a package qual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the current package is package a and package a “uses” package b, then the symbols of package b do not need package qual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packages “use” the Common Lisp packag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6E63-B5EC-4AB1-8C47-B53D4B3AC76C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BA8917-5FB4-4E4C-A2E9-76499F68B8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ommon Lisp implementation must provide the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-LISP:  a package for ANSI Common Lisp symbols; you can’t add to it or chang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-LISP-USER:  a package for user’s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-PACKAGE for symbols that are used as ma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6548-6667-4972-B267-1566E14F7C1F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38AEC3-40B5-43D5-8730-84C4B630AF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word package is for symbols used as ma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in the KEYWORD pack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 printed with a : (but nothing else) before the characters in the symbol’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from-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elf-evalu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A7F3-1979-4C6B-92E1-7FF275C35A0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50FE02-4BA9-497A-8EA1-2F5442B571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 value of cl:*package*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-LISP-USER except in the Allegro CL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-GRAPHICS-USER when using the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MON-LISP-USER package uses the COMMON-LISP package, as does COMMON-GRAPHICS-US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E425-B984-4BBE-BFB3-8D0326110B5E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BC58CC-9C67-4B98-BF9D-3413CDCDED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packag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99072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1): *packag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&lt;The COMMON-LISP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2): (package-nicknames *package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CL-USER" "USE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3): (find-package :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&lt;The COMMON-LISP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4): (package-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nd-package :cl-us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COMMON-LISP-USE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-USER(5): (package-use-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find-package :cl-us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#&lt;The COMMON-LISP package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&lt;The EXCL packag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D86D-9805-4D31-BC79-613B7FBB7C8C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A7E8CB-4838-43A0-B4C9-D2F57C6146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package informa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121932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1): *packag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COMMON-GRAPHICS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2): (package-nicknames *package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"CG-USE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3): (find-package :cg-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COMMON-GRAPHICS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4): (package-name (find-package :cg-us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COMMON-GRAPHICS-USE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5): (package-use-list (find-package :cg-us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&lt;The COMMON-LISP package&gt; #&lt;The EXCL package&gt; #&lt;The ACLWIN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COMMON-GRAPHICS packag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7CBE-7D4E-488E-A39E-6FE453B4A44B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ACD578-4426-42E6-8550-8C70451AA3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ack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21932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6): (defpackage :my-first-pack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MY-FIRST-PACKAGE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7): (package-use-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nd-package :my-first-packag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#&lt;The COMMON-LISP packag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8): (in-package :my-first-pack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MY-FIRST-PACKAGE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IRST-PACKAGE(9): (defun my-function (a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 a 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IRST-PACKAGE(10): (my-function 2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BEA7-2162-4F2E-9D40-8DEF62C7B19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F6F52B-9B59-4F6F-B27B-2621CD1943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2640" y="-30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ackage 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76212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IRST-PACKAGE(11): (describe 'my-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UNCTION is a SYMB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nb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NTERNAL in the MY-FIRST-PACKAGE pa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function bindin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Interpreted Function MY-FUNC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nction takes arguments (A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-FIRST-PACKAGE(12): (in-package :cg-u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&lt;The COMMON-GRAPHICS-USER pack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-USER(13): (my-first-package::my-function 3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1017-0143-4FC5-887E-34365434B42D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6B04DE-C92E-465C-8488-94E89F5FB2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symbol in a pack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either an internal symbol of that package or an external symbol of that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ferenced with :: between the package qualifier and the symbol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ternal symb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rt of the package's public inter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been  exported from that pack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ferenced with a single colon between the package qualifier and the symbol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5D1C-94FF-4392-8D83-F4C8B9A976BD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4A961D-1F47-42AA-95BB-2347042F63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cont’d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dvisable that every file of  lisp code have exactly one call to in-package and that the call to in-package be at the top of the file, preceded only when needed by a call to def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should have their own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56FC6-86F3-4CCD-ADE0-30D450D8AD57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E57E89-D3F7-43F4-8999-94629FB217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67280" y="1271520"/>
            <a:ext cx="7313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43): (format t "Hi, I'm David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, I'm Da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44): (format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~%Hi, I'm ~a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v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, I'm DA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G-USER(45): (form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i, I'm ~a" ’dav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i, I'm DAVI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07F26-20C7-4A1C-9A08-280A25E34C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FF7601-A4FC-493B-9740-5FB05B1003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gro CL Certif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p Programming Series Level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Lisp Development in the 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29400" y="4965840"/>
            <a:ext cx="228600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0AF9-FC12-4A4D-B9F7-2D6CEDCEB321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1FBCE30-6C0E-490C-81A1-FC22BB7011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Inf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2-hour presentation each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notes and homework available, online 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ranz.com/lab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on-one help via email at training@franz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2CE2-7812-4260-A47B-8EA17720FBD7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3141E1-D3A1-4B4F-88E0-583E880C28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20760" y="1441440"/>
            <a:ext cx="749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G-USER(50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et ((radius 14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~%The circumference of a circle with ~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us ~d is ~%~f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us (* 2 pi radiu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rmat t "~%The area of that circle is ~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* pi (* radius radius))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circumference of a circle with radius 14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7.96459430051421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area of that circle is 615.7521601035994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95E2-3B32-4BC2-91C0-E5760C4E7D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945AB6-C5D9-4468-A889-5EFE4A6FF8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4T17:49:50Z</dcterms:created>
  <dc:creator>David Tan</dc:creator>
  <dc:description/>
  <dc:language>en-US</dc:language>
  <cp:lastModifiedBy>ssears</cp:lastModifiedBy>
  <cp:lastPrinted>2003-09-23T23:37:44Z</cp:lastPrinted>
  <dcterms:modified xsi:type="dcterms:W3CDTF">2010-09-09T14:02:57Z</dcterms:modified>
  <cp:revision>177</cp:revision>
  <dc:subject/>
  <dc:title>Franz Training Class Com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franz.com/lab/</vt:lpwstr>
  </property>
  <property fmtid="{D5CDD505-2E9C-101B-9397-08002B2CF9AE}" pid="9" name="LinkColor">
    <vt:r8>16711782</vt:r8>
  </property>
  <property fmtid="{D5CDD505-2E9C-101B-9397-08002B2CF9AE}" pid="10" name="MailAddress">
    <vt:lpwstr>training@franz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cobweb\colin\www\franz\users\colin\htdocs\la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