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60F1-EF90-42AA-8C44-E3B1CE72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F151-C076-418A-A2E9-473E78FC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2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3F32-D7C1-48D8-B989-8E3D8715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80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34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80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34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65BA-67CE-4E2E-A367-20250A58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CBBE-A2DD-47E2-A077-5F368715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DE90-D341-4CD5-87EB-EA5DC242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FB90-D940-49C6-9CD7-B5254A09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EDC1-0B2A-405E-8E86-BD18777D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7E6C-B0D8-470E-85F3-33E1788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3E70-0D87-4E54-BFE2-C7B99E2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2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4B41-ACC1-4980-80BC-BC654AE7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D85B-AE3F-4D3D-997D-33F7E01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8191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94AB-04BC-4A7E-8BB1-52680721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1219320" y="647712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E38D-9040-485B-B094-A2999DEA2A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4965840"/>
            <a:ext cx="228600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1581120" cy="19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880" y="4952880"/>
            <a:ext cx="183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o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6019920"/>
            <a:ext cx="1066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D5AE-BAE2-4D68-A9F2-FD1DFDCA990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35401C-21C9-4584-87D9-EBB7C9A535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Format Control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A  prints any lisp object  (strings without quo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S prints any lisp object  (strings with quo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D prints a decimal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F prints a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% prints a new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&lt;return&gt; ignores the &lt;return&gt; and any following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*standard-output* “~A ~5F ~A ~%” 5 pi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 3.142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779D-9A95-4816-BA52-F067AAFC53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B98488-7153-4863-A81F-4924B5A15C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9358-FCC4-47CF-B9BE-6C28223830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DA6AB-FFD3-4B8A-9017-C74BA4E550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0519-1BE1-43EF-84C5-3998DC6C02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4583C2-617C-441A-9597-C263BD7FE5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test-form then-form else-fo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eql saved-symbol passwor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“pass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“fail”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est returns non-NIL, executes the THEN part and returns it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executes the ELSE part and returns it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part is op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FA1A-63B1-4AE0-9886-B0DB4C505D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086742-9F44-4BDB-AC26-F816C7B914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 sign-name  (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 (&gt;   number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-positive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test returns NIL (false) or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f &lt;test&gt; &lt;then&gt; &lt;els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379B-58EB-487B-9935-4BA4193F02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1B6821-30E7-4664-8463-85B62C48E3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if, cont’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 sign-name  (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 (&gt;  number 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 (=  number 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zero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egative"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ign-name 10) -&gt; “po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ign-name -1) -&gt; “nega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D557-CF58-49C8-8081-F972B7DE34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4DB8B0-4A5B-42AF-B690-6513AAFE38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statemement, equivalent to curly braces {} in Java, C, C+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6400" y="3413160"/>
            <a:ext cx="3700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(if (&gt; 3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a) (print 'b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c) (print '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  &lt;&lt;&lt;&lt;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 &lt;&lt;&lt;&lt;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 &lt;&lt;&lt;&lt; Retur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488B-4973-4B32-8F99-6543731B90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C1EA5C-6A3E-4E1C-BCEF-F018B94B61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1 and Pro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22040" y="2030400"/>
            <a:ext cx="37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(if (&gt; 3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a) (print 'b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c) (print '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(if (&gt; 3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1 (print 'a) (print 'b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1 (print 'c) (print '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24C74-D922-4B12-8BFC-92509430DA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108A45-5FBF-4F22-86EC-08C38BF63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en test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hen (eql saved-symbol passwor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en-the-v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cord-vault-con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lose the vaul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(if test 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 no ELSE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body forms permit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2419-A14F-435A-A180-40750757E1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F58B91-2E89-4599-B3C6-1704052036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less test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unless (equal string passwor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ll-the-polic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(when (not …) 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3EDC-3645-4445-8E30-414AEE28D0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EE2FA9-F4D1-4CF0-805E-5DE29C1517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p session contains a large number of objects which is typically increased by    user-created lisp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BE47-C39C-4A14-8DE5-7B55879348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90CB8-8F44-4F48-9965-5D6C56DCB7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und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: (not  (&gt;  x  3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: (and  (&gt;  x  3)  (&lt;  x 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: (or (&gt;  x  3) (&lt;  x  0) (=  y  7) (&lt;  (+  x  y)  5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1703-0AF6-4B7A-BE82-63256E4C51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9606ED-A98F-4E31-892D-BA391288F7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ypes of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ic comparisons: &gt;, &gt;=, &lt;, &lt;=,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ity of objects: EQ, EQL,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ity of strings: string=, string-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tring-equal  "Radar"  "RADA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t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ypep  x  'inte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19DB-DF24-4E7C-A08A-0C53644004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64DDC2-A496-45AE-9C4B-A7FD1D057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COND as if/elseif/elseif/elseif/end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lause has a test followed by what to do if that test is tr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d ((= x 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sing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tw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“You WIN”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triple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unknow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“Too Bad”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A40A-7B62-4CDB-B875-0DE4947843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E1B764-66D4-4C4F-BBFD-9AE78B7462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are evaluated in sequence until the evaluation of one of them returns true (ie not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st test may be the symbol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d ((= x 1) (print 'sing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2) (print 'tw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“You WIN”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3) (print 'triple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 (print 'unknown) (print “Too Bad”) 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EB8B-5BA3-4141-A9B9-4941B8E50C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C58007-42E5-4249-A0F6-63689BCF35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form is evaluated to produce a test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is established if the result of the evaluation is eql to a key of the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element of final clause may be t or otherwise, either of which assures a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1 5)(print ’odd)(print “less than 7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 (print 'two)(print 'tw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3 6 9)(print “multiple of 3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therwise (print ’ok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264C-7224-4E20-8334-1B4E7F2188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1C87C-1438-43F8-9C5A-F1970B90F1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ing out of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case is true, CASE simply returns NIL without doing any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 (print 'singl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 (print 'tw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 (print 'triple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EBB8-9B39-4F46-9122-0CC96B3B27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AD50B6-2277-4641-8833-AC9CFF8646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un accept-bid-1 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mat t "How many dollars are you offering ?"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et* ((offer (read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unter-offer (+ offer 5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+ (length (format nil “~d”counter-offer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mat t "Would you consider raising that to ~v,'$d ?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-off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ase (rea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y yes t ok) counter-off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otherwise offer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2195-FE42-45A6-B155-A7C0511923F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E7A52D-E25F-4318-B3EC-5C3EAF1B98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un accept-bid-2 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mat t "How many dollars are you offering? "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et* ((offer (read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unter-offer (+ offer 5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+ (length (format nil "~d" counter-offer)))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y-or-n-p "Would you consider raising that to ~v,'$d ?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-off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-o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fer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9E47-8793-4CBA-8084-C33B364D78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8C0E61-AAB1-4E7D-B382-CF501B40B7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case is true, ECASE signals an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c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 (print 'singl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2 4)(print 'tw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 (print 'triple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rror, 7 fell through an ECASE form.  The valid cases were 1, 2, 4, and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D194-1868-403D-8499-67BD80D4D9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3579E1-8962-45DC-BE71-9D180A6902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ecase some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eger (print ‘intege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ingle-float (print ‘single-floa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-float (print ‘double-floa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therwise (print ‘dunno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2028-B4AB-4E1D-BBAA-9B14AD1F9B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D8A398-0572-4006-BA6B-C0BC77CD49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works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ad-eval-print loop which is provided as part of the lisp s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ditor (preferably a lisp-knowledgable edi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s c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in the read-eval-print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ditor from which code can be saved and can be modif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2E31-D813-4E52-864A-D6A032CD5BF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7C4B30-60DC-41D7-8F86-9F5D511BBE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ype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TYPECASE with the otherwise clause signalling 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typecas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eger (print ‘intege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ingle-float (print ‘single-floa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-float (print ‘double-floa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EF92-235B-46C4-A345-A070F44176F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D6484B-1713-4B70-A627-0E7B01270F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on and 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335F-2D5D-4819-85E4-181C773129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F82192-FFBA-4E07-A5FA-C33364BACA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terate over elements of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var *lunch* '(apples oranges pear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element *lunch*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eleme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element *lunch* ‘do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eleme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BD96-73C7-4077-A4CC-1207D250446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7BA7B-A7D9-4008-9B85-4A6ADD23F9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terate over a some number of consecutiv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times (I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tq lunch (list  'apples 'oranges 'pear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times (I (length lunch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(nth i lunch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7990-EB5E-4F98-A6F9-AF4CDF17CB1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350505-1EF6-45B0-823D-9BCE84F28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imes with return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676520"/>
            <a:ext cx="59436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(dotimes (I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&lt;~D&gt;” 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0&gt;&lt;1&gt;&lt;2&gt;&lt;3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dotimes (i 4 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"&lt;~D&gt;" 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0&gt;&lt;1&gt;&lt;2&gt;&lt;3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E3FA-5123-482F-BEA6-EAB279283F3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DEBCF3-D4E7-4B91-969B-E68B3B1C7A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general iterati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iterate by two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do ((I 0 (+ I 2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J 7 (+ J .5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(&gt; (+ I J) 50)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rint 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terpr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E58E-DC5B-423D-89D0-1814BAC7BB7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350315-E580-43CC-B05C-092EC4ECD3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do ((variable1 init1 step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variable2 init2 step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…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endtest res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dotimes and dolist could be implemented using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99CA-8F01-4A18-B823-44F721FAA8F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4D0B4-51B5-4C84-A52B-E672DFDF3E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 Without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let ((I 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when (&gt; I 10) (retur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etq I (+ I 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rint I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 iterates forever (unless you call RETUR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96C3-A482-447A-96C0-124818574D4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7B008F-91B0-49B4-8CC2-F12737DD4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 with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14): (loop for i from 1 to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 (* i i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 4 9 16 25 36 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15): (loop for j from 0 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6E29-CFF3-4799-A529-9DD4395E900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3A5FFA-96D6-40AF-BA57-EBE3F9BB1D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with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man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lots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mis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can collect, sum, maximize and minimize all in one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n’t cover the full range of loop keywords in thi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F94C-95F0-47F5-A003-15FA1422FB0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0F4D8E-8A78-461D-A5B6-6B3A09B843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s the code into the lisp world by entering it directly to the read-eval-print loop or by loading it from the editor or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loaded into lisp may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ed - loaded as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before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92E0-90A3-42C0-94B1-6EA4AA9962F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21166E-D6E9-4F7C-9697-024AFF94D8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ing using from/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mycount (start-num end-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num from start-num to end-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num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count 1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9A4E-A7E6-4450-9159-1B851C4C550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164C14-AD36-4DA6-A8F9-9FC08A0771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withou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write code using do, dotimes, and dolist to accomplish the programming tasks addressed by loop keywor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you can write code to collect, sum, maximize and min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0B73-1668-461E-AF5C-73FD0923D1B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02FD78-B052-4653-A301-3C0BDE4D08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ing a List of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accumulate and return a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sum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result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item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result (+ result item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um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F24D-BA1E-4A05-8025-9F919C2379C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9FDD2F-E1BE-4C47-9270-35450ABB23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Maxi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arch for a maximum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maximum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result (first 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item (rest 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hen (&gt; item res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result item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ximum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2ECC-9406-43C0-BF6B-D5079E2AE1F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6CE9EC-23DB-4D84-B240-687F763036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using  condit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“do” the body only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print-even-numbers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item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evenp item) (print item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-even-numbers '(10 1 2 4 7 8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31E9-70FB-4BD9-B417-8E6F25CCE04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5E953F-D88A-46C8-ABCF-84BD3A18F7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recursion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pecial kind of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in which a function call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ursiv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s if some condition is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s itself with different arguments if condition is not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7F42-64CF-43E6-9AE9-5117B6CFA9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6C5C81-CC7E-472C-8319-0424D1A16F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find-even (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item (first lis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and (numberp item)(evenp item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(rest list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8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race find-ev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8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e problem: what if no eve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3875-A005-4E19-9979-044D7BFD2D5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A23B7-05B4-4114-AD54-80BA673D11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n’d,  trace out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990720"/>
            <a:ext cx="80010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G-USER(14): (find-even  '(5 7 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0[1]: (FIND-EVEN (5 7 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[1]: (FIND-EVEN (7 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[1]: (FIND-EVEN (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[1]: returned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[1]: returned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0[1]: returned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E14F-631E-4460-84B0-FF894F09E42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056FAE-C1EF-49BF-96DD-6B2D997514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nt’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find-even (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item (first lis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and (numberp item)(evenp item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(rest list)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8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n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711C-0C7E-485F-A0AF-1FB777F2315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6F0DD2-1A9D-43A2-9BD3-E89660BAB7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find-even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item (first 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First, see if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nd (numberp item)(evenp ite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If not, call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function with a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argument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ind-even (rest list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66B7-98D6-4762-84D0-F855253D94AE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AA9CCB-39D1-4BD8-A959-8C7E3C2734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written in Common Lisp can be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Lisp compiler can be applied to files or individu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ing a file of Common Lisp source code, say myfile.cl, creates a file myfile.fa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my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ile-file "my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myfile.fas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my-app2/my-other-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c:\\program files\\acl62\\still-another-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17A4-9B47-46AB-8C56-7276643BA7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E74F36-FC20-4AC0-8618-F8EAD6A5E8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factorial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First, see if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&lt; N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If not, call the sam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ith a different argument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 N (factorial (- N 1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actorial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race fac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actorial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6BFB-BF7A-4475-B0A1-EC5B43E3787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544BC2-85E7-4016-8B86-03B0DC67CB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al con’d,  trace out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990720"/>
            <a:ext cx="8001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G-USER(17): (factorial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[1]: (FACTORIAL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[1]: (FACTORIAL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[1]: (FACTORIAL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3[1]: (FACTORIAL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3[1]: returne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[1]: returne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[1]: returne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[1]: returned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21E1-4E1C-44D2-A058-BC3691A7C573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6F83EB-06C9-4FF4-B7EF-AC7D0985DB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are recursive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lgorithms on lists are recur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my-copylist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or (not list) (not (listp 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cons (my-copylist (first 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y-copylist (rest list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y-copylist '(5 6 7 8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B41D-611A-4443-B00F-3A5B5B0293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3DEB9-1230-42F2-A68B-0A6AEBF36A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66560" y="124452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 (some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ll (rest some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(first some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 (rest somelist)))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2 (some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first-el (first some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rest-of-em (rest some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ll rest-of-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rst-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first-el (sum-em2 rest-of-em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061F-C2DA-4D48-981F-FC1FB99B95F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C33FD5-18AD-4472-9895-DB5363093F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4320" y="1805040"/>
            <a:ext cx="713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3 (somelist accumulato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rest-of-em (rest somelist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ull rest-of-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accumulator (first some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3 rest-of-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accumul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somelist)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0CC1-A83E-460B-BE69-7806DFAE50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7BF646-DAA9-4EFC-A75E-56A06E16A3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3960" y="1805040"/>
            <a:ext cx="676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4 (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sum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list (el somelis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tf sum (+ sum el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5 (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sum (first some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list (el (rest somelist) s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tf sum (+ sum el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8384-96A9-4AFB-AF0A-41C471C5A4AD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731BD0-A81C-4012-99A8-B5D4A28047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760" y="1295280"/>
            <a:ext cx="749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6 (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first-el (first somelist)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ll first-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mberp first-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first-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6 (rest some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(sum-em6 first-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6 (rest somelist))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6 ‘((1 2 3) 7 (4 5 6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DF48-BB70-4CA4-AD7F-337F64B3CF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C50231-7B0F-43E6-806C-4671011935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local Ex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87E6-83DC-451D-9B3E-0296C9408AF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47019D-357C-44B6-99AC-9BAE510F92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ocal ex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n-local exit is a return to the caller from the middle of some construct, rather than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, return-from,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, th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8C2E-0237-4AAB-819E-446719D0EDF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9E2C80-D6FF-4B51-8494-AB4B22A575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-from is a lot like G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-from requires a block  tag argumen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try1 (ite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result nil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lock 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list (object *objects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hen (matchp item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tq result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turn-from search nil)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resul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gives you a named place to go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F0FB-7F95-4BE6-A904-FD092813432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956DF5-8655-494C-9263-8C63EF7A90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ing a file does NOT make it part of any lisp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finition created by typing directly to the read/eval/print loop does not create compiled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fun my-func (ar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73 arg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preted definition can be replaced in the same lisp session by calling compile on the name of th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ompile 'my-fun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compilation while using Allegro CL both compiles the designated code and loads the newly compiled definitions into the current lisp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49AB-6EB3-45DE-ACAC-DB1EC7161D2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AE9D44-EA25-4D91-B71F-EF4FF8704E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-from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try2 (ite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result nil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list (object *objects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hen (matchp item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call to setq below is usel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tq result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turn-from try2 nil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if called, the line below will print n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result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61C2-59EB-4E2D-A891-43DC759FF43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2C034-85E8-448C-A10D-602A9694C2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and return-f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establishes a named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is a symbol (might be the symbol N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rmal return is value of the last form of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-from allows early return, second arg is value to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8270-DFE7-4FDC-B53E-FDD1903C506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555FAB-9DA4-4111-87D0-F9627B2FCA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from a block named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nd other do&lt;something&gt; iterators create a block named nil around the cod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try (i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object *objects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hen (matchp item 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Return from the do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ject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CD67-181F-4851-BEA8-32044A3AF8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0A24A-F0EC-469C-BA87-CCD225D91E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fun try3 (ite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o* ((how-many (length *objects*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dex 0 (1+ index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(nth index *objects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th index *objects*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ch-found nil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or (setf match-found (matchp item objec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&gt;= index how-man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ch-foun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789E-C7A9-43A3-8163-30ED2045A9A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0D8806-7C67-4382-A639-B5D5CEAFCF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alpha (arg1 arg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&lt;= arg1 arg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row 'spaghetti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beta (recorded-average score handica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tch 'spaghe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lpha (+ score handicap) recorded-averag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terrifi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eta 100 90 20) -&gt; TERR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eta 100 70 20) -&gt; 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5F6D-FC0E-4314-A641-DC8FE79D3E83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7D08B-5063-4D14-BF1F-9919E7B23D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catch-test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tch '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"before thrower cal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erp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rower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"after thrower call"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erp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"after catch frame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thrower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&gt; n 5) (throw 'location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70A6-E977-4419-BC68-FB20993C8C66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7A709-1D57-45D1-BB8E-F23A6A47E3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THROWER throws to location, forms after the call to thrower in the catch frame are not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-user(42): (catch-test 10) ;; THROWER will 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before thrower cal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after catch fr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-user(43): (catch-test 0) ;; THROWER won't 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before thrower cal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after thrower cal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after catch fr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-user(44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073E-72B6-45D2-A811-BD286D7A9816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34C75C-565C-4957-A231-7344D90C52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ustomarily a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be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s a catch block named with tha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rgument of throw is the catch tag, second is the value t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 doesn’t need to be done in lexical scope of c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9598-5894-4169-BC23-F0ADC9297B6B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BE0AF3-A161-4958-A7E8-4F2A5A3386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p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namespace for related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s a mapping from names to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lways a current package which is the value of  the Common Lisp symbol *packag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in the current package can be referenced by its 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accessible in the current package can be referenced by it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A762-ACBC-422A-916D-1E07C15D3AAE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D991F3-D90D-44F2-9575-0E7649CF4C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accessible in the current package can be referenced by it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which is not accessible in the current package can be referenced by prefixing a package qualifier to it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on Lisp symbol *package*, which, like other symbols specified by the Common Lisp standard,  is in the Common Lisp package and can always be referenced with common-lisp:*package* and cl:*packag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1ADE-DC06-4FF0-B640-00293155F8E9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19FFB6-9882-45F5-B05E-F7E6442260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p application written in Allegro CL can be delivered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code to anyone else who has a copy of a compatible Common Lis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compiled files to anyone else who has the same version of Allegro CL for the same kind of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lone application for use on the same kind and similar version of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8CC7-FEB3-4966-92B4-8EE170EB0F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0CF67A-664A-4244-8481-3110DAE3B9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have a kind of  inheritance by which within any package the symbols of some other packages designated to be available externally can be referenced without a package qua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the current package is package a and package a “uses” package b, then the symbols of package b do not need package qual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packages “use” the Common Lisp packag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6A61-EC04-4AF2-AFEB-6CC0432A0DA9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CF7C83-4A2A-4322-8CCB-B095473E5C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ommon Lisp implementation must provide the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LISP:  a package for ANSI Common Lisp symbols; you can’t add to it or chang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LISP-USER:  a package for user’s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-PACKAGE for symbols that are used as ma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3AC5-E07A-4A04-A3EE-CDB73515092E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D5E738-63D8-487E-A477-5E2168A07E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word package is for symbols used as 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in the KEYWORD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 printed with a : (but nothing else) before the characters in the symbol’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from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elf-evalu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44B5-E255-4761-B789-3B9BFE21A6D9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04549-4F0C-4387-9B7A-9505FE5F77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 value of cl:*package*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LISP-USER except in the Allegro CL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GRAPHICS-USER when using the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ON-LISP-USER package uses the COMMON-LISP package, as does COMMON-GRAPHICS-U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B565-6141-427E-9604-D85843D5115D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B6F4FE-FB4C-4DAA-BF3F-9F6B2C9602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packag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99072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1): *packag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&lt;The COMMON-LISP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2): (package-nicknames *package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CL-USER" "USE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3): (find-package :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&lt;The COMMON-LISP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4): (package-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nd-package :cl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COMMON-LISP-US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5): (package-use-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nd-package :cl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#&lt;The COMMON-LISP package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&lt;The EXCL packag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E8AA-ED5B-475D-862C-9AA023BFEDDB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76EC57-C866-4608-8D95-DCFDDFC23E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package informa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21932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1): *packag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2): (package-nicknames *package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"CG-USE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3): (find-package :cg-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4): (package-name (find-package :cg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COMMON-GRAPHICS-US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5): (package-use-list (find-package :cg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&lt;The COMMON-LISP package&gt; #&lt;The EXCL package&gt; #&lt;The ACLWIN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 packag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EE55-AB1C-4983-A153-E39CE01EDE7C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2D70A8-0CD8-4A15-9D42-80CAF3C227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ack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2193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6): (defpackage :my-first-pack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MY-FIRST-PACKAGE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7): (package-use-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-package :my-first-packag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&lt;The COMMON-LISP packag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8): (in-package :my-first-pack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MY-FIRST-PACKAGE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9): (defun my-function (a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 a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10): (my-function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8A16-C7AC-427C-8039-0D49B871643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102DBD-7BC8-4533-A3AE-4451AC110F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ackage 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76212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11): (describe 'my-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UNCTION is a SYMB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nb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NTERNAL in the MY-FIRST-PACKAGE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function bindin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Interpreted Function MY-FUNC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takes arguments (A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12): (in-package :cg-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13): (my-first-package::my-function 3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935C-21E4-4894-86A6-2179EEAD14C9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AA10B4-550E-4519-845B-31E6054F5F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symbol in a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ither an internal symbol of that package or an external symbol of that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ferenced with :: between the package qualifier and the symbol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ternal symb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rt of the package's public inter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been  exported from that pack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ferenced with a single colon between the package qualifier and the symbol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64ED-4692-4A49-B4D3-C79655989FC6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48E39F-9C7E-4B65-A740-5F77D50D15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dvisable that every file of  lisp code have exactly one call to in-package and that the call to in-package be at the top of the file, preceded only when needed by a call to def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should have their own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3D3F-938A-4503-850E-4F2E3E7B9BE9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22FF5D-D26E-48D8-96BF-A56883DED6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67280" y="1271520"/>
            <a:ext cx="7313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43): (format t "Hi, I'm David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, I'm Da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44): (format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~%Hi, I'm ~a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v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, I'm DA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45): (form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i, I'm ~a" ’dav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i, I'm DAV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D91B-68AA-4802-AB94-D9AAE75386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84B27C-C89A-45B3-B7CC-EB0C28AF08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Lisp Development in the 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29400" y="4965840"/>
            <a:ext cx="228600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47A7-9D28-4192-9CBC-E1CEE95E93B0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118A08-8B96-4DD7-926A-AA67B2EA05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2-hour presentation each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notes and homework available, online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anz.com/lab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-one help via email at training@franz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16E2-6617-4CC0-BDCA-C252581A81C7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E8AEBE-6E1F-45EE-B8D7-443CAD3DEF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0760" y="144144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G-USER(50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et ((radius 1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~%The circumference of a circle with 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us ~d is ~%~f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us (* 2 pi radiu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rmat t "~%The area of that circle is ~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pi (* radius radius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circumference of a circle with radius 14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7.96459430051421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area of that circle is 615.7521601035994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BAD0-4FE1-4EA9-A4FA-4C7D3339C3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A10736-2E7F-4212-BCF7-2C3BD1150B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7:49:50Z</dcterms:created>
  <dc:creator>David Tan</dc:creator>
  <dc:description/>
  <dc:language>en-US</dc:language>
  <cp:lastModifiedBy>ssears</cp:lastModifiedBy>
  <cp:lastPrinted>2003-09-23T23:37:44Z</cp:lastPrinted>
  <dcterms:modified xsi:type="dcterms:W3CDTF">2010-09-09T14:02:57Z</dcterms:modified>
  <cp:revision>177</cp:revision>
  <dc:subject/>
  <dc:title>Franz Training Class Com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